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253B-8AF0-4359-BAA1-3DCC98373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6DB24-38CE-4652-9270-A2A73C1B97C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C73E-0467-4075-BF8E-53C9739D7BE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57F6F5-9821-4B7A-A0A8-CEEF29E434C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F4FF-AF4E-4A98-95C4-541EE2012F4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445AE-3226-484A-964A-FF6BCB2152C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F527A-BB8A-43A1-B8F7-07E0243B693F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7A4D72-9993-43EA-9A3D-57C543CF9A6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A182-307E-4000-A1D6-BB94F4E1CA16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081276-D38F-4A1A-8829-3186497EA46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D5317-FFEB-49DB-A57D-AECB81B66B26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9E5732-76F7-4881-8113-8C5E1E92F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D249F-267D-45CA-A722-99B640DA7DD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03CFEBE-4B1A-4359-9DE9-690BE7165E5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8695CA-7DD2-48A5-A071-51D5394B084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813AAD-9956-478D-A16B-B97AA94082A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75DC3D-3F8B-45A8-9720-A30A8D9C5F4E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8E3B6-16AD-4769-B2FF-32D4AE0AB30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E4E63F-CC31-4953-AC8F-1174A15BF0DE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A60F1-86BC-40A5-A836-8696956F6C82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929F7-A455-45F6-B9D8-9DABFCB9A4F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D0092D-704D-450D-84BF-72A609529EEA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0C215-C6EA-4E9A-8859-3C4AA14404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5573-AD0E-4F91-8E9C-531E7AF3010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0006D3-FAAC-4B3F-A457-A6EDCF8610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CD186-E6AF-4E0E-A704-E1BF6C62079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C26D6-8EB3-425E-9674-A9CE0A17749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E006C-DDA7-4D66-8A72-68767A3B8C6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9F5A4-7C19-44B1-9E16-E804BBB1CAC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848A4-271E-49DE-A998-EFF9226D10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B79012-E58A-4BEE-A5A5-F433882141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33669-CE83-4087-8384-0F08B81833F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3A2BE-F3FC-422B-9EBD-753A6DAD26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3028A1-8319-4DA3-8432-B33C4E1EBC7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2BACC-7780-4C89-9F41-B25194A7F0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B93F1-CFE0-435D-A547-314456902B0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C2844-CD43-4233-A0B5-D098FD212D1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F6555-0710-4E86-89E8-66E2302417B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03B1-67F6-45A6-9C21-9A012BF026A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DD33-9B9D-4154-BAE6-59671644EAB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D8D5C-8E00-4E90-AB68-63974534655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53E6-C2FB-482C-B780-8BD12C7915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36D0-1A53-48E7-9582-7C66A2B82E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16055-ABAA-4575-AECD-29241506A3B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C77B-3F7D-4689-A35F-608B4FB02D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9CF8-8EB0-4054-A0C8-0B0EF0E9BF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24A0-88D3-4635-B122-F1245D83DC7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B517-FC1D-420E-8D96-2529BE30FAF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D9A9-B8C6-4FC9-AEDF-BA30098D4AA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FE1-12CF-4199-8498-C13E8FB1D47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B67-1D23-4D54-8187-0CF08505263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A4B67-B715-420D-9448-15F27F74DC4E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862CC-057F-4D56-B887-9DCFA721D10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C535D-B059-4D31-9992-CECBED16F5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7C344-6D0A-429D-94EE-B00B3D2B51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017D4B-B7F6-481B-8990-0A494D1664F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53EF1C-70D4-438B-B245-2AA9DE673AE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682FB-2775-4B76-B621-C0790894C21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D9DB6-73CF-4D74-9D49-EB41B9FDCF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44C3F-1177-47CE-955B-11BFDCD5933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CE9BB-71F2-42AE-ADF2-B50AC94905F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34A6F-1A70-4B45-802C-6333E71118E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E8077-BEF1-4517-B9D9-39E59E7F9BE5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6028D5-51C7-4602-AB89-CEDB75C5EB0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819E0-AC1D-4E88-B51A-644F7943BB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2FBB9-06EF-4B9D-94F7-96B4F98791F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4035B-BE6A-42E1-9EF1-C1E0E7AD033A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91F1DE-F2E2-424D-8388-230C7E14F0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B6EA5-31E2-4367-B5FC-768505977E7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AD0DC-7DB0-4ECF-9EE2-27CF6229A8E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1AD6D-E2AE-4554-ABAB-A1A5E84797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07189B-8372-4529-934E-66199725168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DB3C2-D10B-4349-9487-E3A82C6C30D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0A348C-6066-434D-8EC7-EA3DD519244E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68770C-F634-4C45-93B4-1C4E603C5138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4743A7-6619-4D51-80DD-EB45AE98E5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56CD8-D96E-4AD6-ACCE-FDDF1578D4D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06044-0935-4EF6-8B51-25D5192F751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8011-8D7F-4EB7-BB32-B182BD25B4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20E0-D1E1-4797-B311-C24D880A9A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88CC4-8111-4996-A941-F6C06300394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E233B-C42A-4BD9-B369-8A65F68C2AA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C883-DD20-41E5-A357-3A1E7D6CAEBD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2E9D-DE59-42F6-94B8-1C896AC34D8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5A90-9581-45C2-A861-6DD35365EA5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9D2C6-599F-40F0-981C-6C6BB30BCBE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C15AC-EDA3-471C-A6A8-2671289B8E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FA3F3-6F73-4031-9471-43F43AD6BD9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BE7F-1D76-4343-AF00-A45A19047B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FC672-ED03-4289-8277-4A136167A0E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70EA-17E5-44C8-BB49-C39AF22BE813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D450E5-9169-4F98-BF39-A8DA9521556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350071-86A6-4F04-9D09-C0D3BE270837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F50D91-2150-484F-B6DE-A7253DCFDB7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2B2B3C9-57EC-49F9-922A-F69331FAB3C0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1121483-5D19-4111-A1C8-EA2915CAC3FB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6BB22E-0E4A-488E-9A5F-7A7BEC9B6257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4F6970-EAE3-4D25-B35F-25AB7A495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D2A6B-1B13-4B80-BA72-1A41A8F9889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DFC94-FAD4-40B2-A10B-56B627CC9222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C41992-5147-49FE-8458-7655886EC51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FC5846-D91E-4224-8661-13540F905F91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1D222B-95D5-4FFE-9BF6-AA7AA9883EBE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4F9C6-D029-464A-AB08-DEC6412176F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8F1E98-6220-40E8-9638-387A9D5BC19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53F4F1-1446-46B4-B33A-0935989A8F9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AB9DEC-6817-4CC0-A97F-87D083F17695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868FE8-A954-4042-A304-901DF8A9920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0E0CAF-302C-4392-9DA3-178CD105A00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6C885-60F9-414E-9F94-860578171D2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622440" y="0"/>
            <a:ext cx="8889840" cy="588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D5E0C2-ECC9-43DE-9B6D-E70A7197894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67DD0B-5F09-42A3-AB54-70B41F00844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47DBE0-FBB7-4CAC-9588-D49CE4826F9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53C31B-F1C8-48FD-B40B-0F88E955993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622440" y="4242240"/>
            <a:ext cx="8889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3F7AB-6152-4263-B79D-BBEF68F98915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177880" y="125712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244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5177880" y="4242240"/>
            <a:ext cx="43380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FE981E-B189-4853-8D12-CF42407B127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62844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634080" y="125712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22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62844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634080" y="4242240"/>
            <a:ext cx="286236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D5D555-21E6-4509-B76A-13644CDC560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DB8884-254C-4F11-92CC-4FBEECC04AD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D6E73-3ED9-4CE3-A5C3-22A9218377E7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1356C-54AD-4A8C-9FBA-C9E2BCF19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2440" y="1257120"/>
            <a:ext cx="8889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A2C5B-01D8-465B-BC20-10EE68834F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622440" y="622080"/>
            <a:ext cx="8889840" cy="63500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5698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10270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471680" indent="-303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9162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373480" indent="-30348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Num" idx="10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331F-BB79-4668-9410-0EC70BD7744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Num" idx="2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1E93-0C66-4B19-B5C3-7BA5336BDB1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ldNum" idx="3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01786-7736-4521-8DBC-7F1C40EC2E9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2527200"/>
            <a:ext cx="8889840" cy="254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Num" idx="4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31384-518B-449F-A819-A76EF75E759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22440" y="570240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ldNum" idx="5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B8CA0-0BBD-4EF5-814B-13FA6959109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e5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22080" y="622080"/>
            <a:ext cx="4444920" cy="253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22080" y="3797280"/>
            <a:ext cx="4444920" cy="3175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7000"/>
          </a:bodyPr>
          <a:p>
            <a:pPr marL="263880" indent="0"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63880" indent="-263880" algn="ctr">
              <a:spcBef>
                <a:spcPts val="201"/>
              </a:spcBef>
              <a:buClr>
                <a:srgbClr val="000000"/>
              </a:buClr>
              <a:buFont typeface="ヒラギノ丸ゴ Pro W4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6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AD62-BBD6-4276-972D-79E6139F98F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e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44449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4000"/>
          </a:bodyPr>
          <a:p>
            <a:pPr marL="53568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96516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383120" indent="-28476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80108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2230920" indent="-2851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sldNum" idx="7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DDD48-11E8-474F-A6E0-3B7CDB6F4AC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2208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sldNum" idx="8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B648-7141-467A-8B49-90F65CACC074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702040" y="1257120"/>
            <a:ext cx="380988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1000"/>
          </a:bodyPr>
          <a:p>
            <a:pPr marL="46152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1" marL="8316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2" marL="119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3" marL="155196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4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5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 lvl="6" marL="1922400" indent="-245520">
              <a:spcBef>
                <a:spcPts val="901"/>
              </a:spcBef>
              <a:buClr>
                <a:srgbClr val="000000"/>
              </a:buClr>
              <a:buSzPct val="125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sldNum" idx="9"/>
          </p:nvPr>
        </p:nvSpPr>
        <p:spPr>
          <a:xfrm>
            <a:off x="9609120" y="7143480"/>
            <a:ext cx="28728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9FEB6-4D3A-41C9-9A10-0C34BC89EA9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ヒラギノ丸ゴ Pro W4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2440" y="0"/>
            <a:ext cx="8889840" cy="12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1"/>
              </a:spcBef>
              <a:buNone/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ヒラギノ角ゴ Pro W6"/>
                <a:ea typeface="ＭＳ Ｐゴシック"/>
              </a:rPr>
              <a:t>Self-Introduction Card</a:t>
            </a:r>
            <a:endParaRPr b="0" lang="en-US" sz="4200" spc="-1" strike="noStrike">
              <a:solidFill>
                <a:srgbClr val="000000"/>
              </a:solidFill>
              <a:latin typeface="ヒラギノ角ゴ Pro W6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888840" y="1143000"/>
            <a:ext cx="370872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89" name="Rectangle 4"/>
          <p:cNvSpPr/>
          <p:nvPr/>
        </p:nvSpPr>
        <p:spPr>
          <a:xfrm>
            <a:off x="2054520" y="4191120"/>
            <a:ext cx="12657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ヒラギノ丸ゴ Pro W4"/>
                <a:ea typeface="ＭＳ Ｐゴシック"/>
              </a:rPr>
              <a:t>Cosette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0" name="Rectangle 5"/>
          <p:cNvSpPr/>
          <p:nvPr/>
        </p:nvSpPr>
        <p:spPr>
          <a:xfrm>
            <a:off x="1117440" y="4876920"/>
            <a:ext cx="335304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I like hiking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My birthday is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October 15, 2002.</a:t>
            </a: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  <a:p>
            <a:pPr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4927680" y="1143000"/>
            <a:ext cx="3708360" cy="6019920"/>
          </a:xfrm>
          <a:prstGeom prst="rect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2" name="Rectangle 4"/>
          <p:cNvSpPr/>
          <p:nvPr/>
        </p:nvSpPr>
        <p:spPr>
          <a:xfrm>
            <a:off x="2276640" y="7189920"/>
            <a:ext cx="974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Front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375240" y="7162920"/>
            <a:ext cx="974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838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ヒラギノ丸ゴ Pro W4"/>
                <a:ea typeface="ＭＳ Ｐゴシック"/>
              </a:rPr>
              <a:t>(Back)</a:t>
            </a:r>
            <a:endParaRPr b="0" lang="en-US" sz="2000" spc="-1" strike="noStrike">
              <a:solidFill>
                <a:srgbClr val="000000"/>
              </a:solidFill>
              <a:latin typeface="ヒラギノ丸ゴ Pro W4"/>
            </a:endParaRPr>
          </a:p>
        </p:txBody>
      </p:sp>
      <p:pic>
        <p:nvPicPr>
          <p:cNvPr id="394" name="Picture 10" descr="Cosette.JPG"/>
          <p:cNvPicPr/>
          <p:nvPr/>
        </p:nvPicPr>
        <p:blipFill>
          <a:blip r:embed="rId1"/>
          <a:stretch/>
        </p:blipFill>
        <p:spPr>
          <a:xfrm>
            <a:off x="1727280" y="1295280"/>
            <a:ext cx="2111400" cy="28162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0" descr="100_7529.JPG"/>
          <p:cNvPicPr/>
          <p:nvPr/>
        </p:nvPicPr>
        <p:blipFill>
          <a:blip r:embed="rId2"/>
          <a:stretch/>
        </p:blipFill>
        <p:spPr>
          <a:xfrm>
            <a:off x="4927680" y="1676520"/>
            <a:ext cx="3689280" cy="4919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20:39:45Z</dcterms:created>
  <dc:creator/>
  <dc:description/>
  <cp:keywords/>
  <dc:language>en-US</dc:language>
  <cp:lastModifiedBy>Student</cp:lastModifiedBy>
  <cp:lastPrinted>2010-08-26T01:04:50Z</cp:lastPrinted>
  <dcterms:modified xsi:type="dcterms:W3CDTF">2010-09-09T20:58:10Z</dcterms:modified>
  <cp:revision>9</cp:revision>
  <dc:subject/>
  <dc:title>スライド 1</dc:title>
</cp:coreProperties>
</file>