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F389-BDED-4DF8-A37A-DCFE4CBC7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3592-C05F-4432-A54A-7DBD1EF580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991D-BFB3-456E-AB77-B1BD5C1B28C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313D-E0D4-4E22-8E3E-CEF6ECD6C2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C2A1-851B-4826-8BC9-E51342F4DE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C78C-139C-49FA-BD6A-310741CC760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58F2-FCA9-4949-9B10-2D84C0432D9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D9A7-E087-46CD-893B-17914D10C17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61C4-91B5-452E-80D5-EDCC52AF8AB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74C5-3D1E-4DAB-8AFD-3B79AF6225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A267-25BE-449D-8CC6-8BDCBEA19ED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FF9D8-8F35-4BFF-9D92-EC93CD4A6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5A05-5E0F-4C84-9B90-24A6B13F4D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2B5EC-5043-41C5-B5B9-136EF15C21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83ED7-55DA-49D6-8655-922B27A6B3B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4FB6E-9EC5-4924-9915-D20F71214F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87F61-8FFE-4D8D-BF52-7D05012BD8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372C72-E46F-4E6B-B3A6-D8231205744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3B038-1306-43A8-83AD-8C55F6731AB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DE361-8C15-4ACA-B2AE-C9566AAFDB9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86EDE-D862-4777-A42E-0019709ECEE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4A461-08C6-4499-9BB8-CE390A6EB8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4B3C2-D504-43C2-8F2F-8A82D83EA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D464-4158-446A-909E-68A92D5721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7D9FE-757A-4660-8698-3FE0A012E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2DA7-14E6-4A8E-8A39-668BF370BA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968B-7950-427F-853E-24A55B1DEC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4BF7-47FA-473F-B58B-CF5393B734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7A80-69E1-4383-B2DA-37C7723630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D6D3-D7BF-4329-8556-598EA90323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E6E0-D404-4958-BE11-CE1E2B5157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A3FA-88CC-4330-BB23-D363920B5F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2BDA-ACEE-42D3-A665-DC1000596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3158-A01C-424C-A9AB-61B1B2E988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BC15-D4F4-4918-8704-BFBE213B49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25F5-E580-418D-94B0-67CC30261D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B3A0-E9EA-4EA2-AF40-A161B2746E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ABB3-6A27-413E-808B-11A974B343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DA4-CF7C-4E34-B358-38B14F8CF0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0C4-D727-4779-AB1F-5691F924A4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367-7CD3-4C61-8967-A03311252F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0A9-99C6-48C6-AFD3-9B55EC627F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BCE-2E08-43C0-BDDB-F21140358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38A7-54E0-4854-8A82-14218D17EC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E77-50C9-4656-8098-D281ACF21A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D72-D127-4DD6-87A5-2A5EBCEBC0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510-C4CC-4D6E-A74A-B08069D48A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0E0-4DA0-4F41-ACBA-4D4C5AEB53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933-472D-4DD5-A8B6-AC040F050F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C18-645B-4645-9321-715F988BB6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E09-2F79-46E4-A8FA-11A52A7BB9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2DD21-2FEE-4DE9-B3CC-F697683C80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6584B-900E-4EFF-B192-D61EE67620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4BC7C-155D-4622-A62A-90DB6AEB1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1B0B-F0F4-479C-9BF3-CFC4E625BB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75790-DA15-4131-BFDB-FDA60E1CA5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7D577-1846-4212-9138-6D2ADF53A7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D5833-40C3-4792-872D-C8C95F61AC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73EA0-8BBF-4CB7-B3F1-F11B6C7F6B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F237D-F8E3-4EDA-AA5A-A47CDC7553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46190-16C1-4D54-B29E-C42C23175C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DE3DC-00EA-42BC-B286-07C6122905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D33D2-14E6-4DAB-883A-5BF1902511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5CF42-C250-49F5-B1D7-0F7657C0D7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6D300-C477-45D9-AB84-412DB671E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DFB1-D513-4A16-90EB-6196FEE33A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5C508-28CD-4302-99F2-6FE7EF17B12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90548-92CA-4431-8AEA-658D75F8E8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E1EFE-9333-4145-8E60-6E319EA421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3E10B-7D32-4749-ADD6-EECBD5BC20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1C13C-D6C3-494D-BAB1-27995EE97F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480B6-822B-4293-BC05-74175853D52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404B7-5D37-4CE5-8B1B-720741859C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41B46-70E6-4F34-BA75-3415FD45677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8070A-B8ED-4476-8B88-EFDDA89A10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72F14-5A8A-47EF-B25B-6D6045325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F9CE-1005-45F6-ADAD-ED6B2164E8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A3D6E-CDFC-401C-BBFF-30176D244C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5A44-946A-4300-B254-630445AC56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7430-3B3A-4DFF-9794-7DF515DF22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291B-DEF5-41EB-A617-5A94B10780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1AC4-FDCD-495E-A38F-DFB705E650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2650-758B-4806-8CA2-099BB8324F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90C0-C001-4BF3-9BFD-CA79F1CF4FC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4D65-E020-4172-B940-734DB473E9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00FD-2FC2-4CCE-AB75-345E931CCFD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9E41-EF4E-4619-8EEE-F9728BF9C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02E7-AA2D-4985-ABDE-E50A7EBE275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A6C1-30D8-441A-921A-8FDDAB5928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0416-B4F7-41EF-AE25-75F041C33F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844C-BE98-4D8C-B6E1-C4930BB631A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3A98C-5B94-4107-9BCE-D2CB60A8B7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D15846-553D-4CF1-A7B2-6EB4D6430E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7E2811-C850-4E84-B91D-2E387BB038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E6C9E-185B-4C7F-B8FD-13D07349AE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AD536-5C53-4C6F-AEC5-C333C8CA6E6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0C8AAA-3DF7-4A18-A477-95443DF1E8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6350E-3266-4D2F-AC83-664D27CFD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95C2-1BC3-4DD9-9F98-F931524D84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88738-418E-4C35-97C5-71A5DC6B89F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D97A0-72E7-47DC-B4D2-B7877967F16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642CB-D26F-43E6-980B-40693893E9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370C33-A361-49CE-BE06-6CF65A25DF9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57B034-609D-420E-986D-00B888EF53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740BB-B3F6-41A7-974E-1D1DAC7AC6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7D3D2-D826-46A1-862E-D2C65E29E47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2AF99-6B5A-41CF-AA33-C90F253A27F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CAECD-D1D6-47B2-BDAF-F71A5DAA73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464F7-AC6D-4A00-815B-720904141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3C43-4AEA-43FD-8B66-8D236D1301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47B69-3C0B-4C8D-A476-203684D5C4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CEC4E-D1B4-4B99-B7DD-E9534BF4E5D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FE1F2-B60B-4AA1-9697-68648BFD99D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045DA-E0A4-4817-87A0-AC4560D97E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57686-AEDA-4EF0-B5B8-EC5E16AA6B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EE1DC-AD10-4C35-9665-CD25077368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47633-14F5-453E-9CA3-CEA6CDA318E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DB62-CFF2-4DD6-A48E-8346F4283E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8EE6-C482-402C-B2A2-9F2E4725088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98E1A-55D2-4DAB-95E5-19E6D0261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368C-8666-4331-B506-C654134EA9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B8B6-1112-4EE7-901C-37D8C37BDE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BA9D-4BCE-4463-A5C7-04B3EB6DD8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A9CB-B0EC-4F65-B2A6-F8FF0B4995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CD9C-4761-4D3C-A01A-779CC5F7B8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CA4B-7FD7-4529-91E5-D9580985D2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CC4F-4605-43E1-B4C5-C17E88A937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1F6B-3B2C-49D8-8614-2E4943B370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CE6F-E28C-47FD-8010-839CC8AE63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E92F-5F1E-4FB2-9AE3-45066DD7EA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054520" y="4191120"/>
            <a:ext cx="126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Cosette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hiking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October 15, 2002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Cosette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9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5Z</dcterms:created>
  <dc:creator/>
  <dc:description/>
  <cp:keywords/>
  <dc:language>en-US</dc:language>
  <cp:lastModifiedBy>Student</cp:lastModifiedBy>
  <cp:lastPrinted>2010-08-26T01:04:50Z</cp:lastPrinted>
  <dcterms:modified xsi:type="dcterms:W3CDTF">2010-09-09T20:58:10Z</dcterms:modified>
  <cp:revision>9</cp:revision>
  <dc:subject/>
  <dc:title>スライド 1</dc:title>
</cp:coreProperties>
</file>