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019F-E8EB-4A02-9188-5093E424C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FDEA-F4E0-4CD6-944E-F9FC4821B7D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D7D7-BC80-4B86-A533-364CF210A5F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E794-4183-4620-94E2-13BDB4DF91D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A41A-C52A-4A64-B411-85432DA1EA9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4426-C9EF-409C-83EF-EEDCA7653E1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CE2A-6D89-4776-85C6-F4944AF703D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0D0C-4D6F-49F4-8577-C58898198AB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1321-F531-4780-8341-4B4ADEDFAFF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E3D44-9EA8-4164-A9D9-F0AA776D9D7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5A08-DD93-4CE9-A17E-85A1313BEF6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B52340-9A59-4C90-BCB2-C1E2AE881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6159-0321-4063-A0C8-1097F8A3B3F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1942F-DF0D-464C-9058-654D7C161F1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B6934A-0517-4CD4-B75F-710EA4C69EA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DDD6F-3CAC-44FE-91D3-568C526B79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F410E-2A91-499E-AB84-C92CE30B605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D4DF87-06BE-4312-B3E7-B5DEBEA100B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EAD2F-590A-4DC3-98DD-93FF23DF9B8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43BEC-3A3C-4F6A-9CD9-D1442E0F586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B1B47-4417-477C-831F-8F3C780CC9B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C6D2D-35BD-4904-AF2F-D8F0731AB2D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900C5-21BF-46F7-86BA-AB7462EA2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1C01-3AF7-40AE-B36F-B97DAF83990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E5FE21-833A-4635-A17D-1DC59FA62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39AA-89DA-466B-AB8E-F1C6BAB8D8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3C3A-5987-437E-9C59-A46551B1B1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4745-42F0-4256-9413-59F6B2538D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2ECE-C983-4ED5-AEDE-3CC8C7E327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0971-1680-41B3-97A5-9DB068B9E9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B267-EDDE-4598-B822-E8D015CA9B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04EF-C88D-4E78-8D85-885DD02016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4026-CDBA-48F0-9CBD-A2D72E005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D9EA-CF95-4711-806A-46EEDF4C6D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C8A2-EF80-4340-A226-CD082B838E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B9C1-7653-4C55-815B-4CCD39C536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A36C-1C9E-4642-8EAB-AB9B5A649F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AB33-6BBA-46EF-AF86-3EA9398508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6B8-FD1A-4B3C-ABFB-21CE189C3F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D57-CDED-49F5-82E5-FDE721C481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66D-4F6A-4187-8369-B6AA6A9F83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D57-4E26-4696-9A09-E9202497FF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499-5060-4717-82FC-09351D0906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971D-522C-4D5E-B3D6-C88EA02880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164-4B85-4F62-886C-429B1A6DF8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76B-69C0-4491-9D03-3D3B81C301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896-2E21-425A-8836-438AA23927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18C-A7E4-4988-9B99-A8536E65B2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AB1-5AB8-4C1C-ABFF-47E1E7A81D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F0C-9AB3-4E84-96C5-60B6BFC40F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E2E-A50F-4310-BD07-4FB5B31915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4F0E1-0F35-4C9F-9115-4653D8A18F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4C6AA-B651-4C91-9928-43F3995043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AE432-2EFC-4D3C-9C47-B76DDFAA7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C2A7-1A28-468E-8B47-6BDCAE36AD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509A5-6619-41DF-8866-065D5E17DE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AF093-70B5-4F5C-BF07-D63C63FC49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C988B-377C-44C0-82DC-B7C5421549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AE739-BA91-4B65-BF69-46E431625D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4B40C-F1A6-4361-BAA6-47D9C0A358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84684-D5B3-4E0A-893C-CFF6148F48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8EF01-99AA-479B-8E38-BE5E0FB5F5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2793F-5D94-4AF5-942C-25AA7258F3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76504-C316-4F39-B512-238F4AF6EAA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DCC9D-93BA-4AA8-A6C9-34EEC51F0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878B-43E8-4F45-A4D0-5AEA68BDAF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A7552-C158-4CBA-8742-D106F9E2BED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8CB74-0868-468E-BFFF-C81213A9FF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1BD6B-BB1B-49AF-8EBF-2F7ADED64E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698EF-D07A-4601-B753-610E2671109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60071-0A09-4703-B7A6-E05DD2E96C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B8F66-8793-4E03-80AD-F8760012F53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4EF2E-D2E1-4A3B-AB8A-FD16939FC68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7C6C3-A9A8-4246-AD36-D7BE72362B4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878DA-709E-434E-ABB7-E3A5E66D689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B7671-8BC2-4C22-9F60-A51BCD1BD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208A-277A-413B-ABFC-A9066748AD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14998-DF35-42C8-B38B-CABB51368E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15C1-760E-4DBB-9DB2-3F7DB7A3A2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E3BF-E070-43D5-89BF-A48F311842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EBEF-2522-4E1D-AEBA-8A8CE1FAB89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3C67-2919-4EE9-B8AD-FE95EE00A42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A03A-5BB7-4B80-8656-703289230FE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5706-2639-4A10-BAA1-DCC1F5075E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2EC5-29CD-41DE-A840-B6BAA19E21C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5B09-9934-457A-BFF6-85FF418ACE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986B-82F0-4D32-9196-ED2B52560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E19C-D260-4714-9D01-F38B0B85651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2ADB-0A28-4477-9B39-81454C74D05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79C7-6E64-4F03-83F4-49639F02D89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36F1-DB84-471C-85AF-C504375FC3A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0A6F35-D793-4DDD-B0CD-8841C5189E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EBAC0-CCDD-4728-956E-90A85F459E1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73547-42C3-42FA-B1DB-DE56558DA0A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930A45-1F3A-4B78-B9BD-80A22B9AF1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E08BE-B6AF-435D-87EF-A937F1B1155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868E80-FCDF-43F9-BFE8-B238A43D64C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80E9B-35BC-4A2A-9071-B67759E87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390D-65BD-425B-9FBF-AA07520990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804B6B-7175-4594-A61C-E424E6DB0E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0DC74-9BB8-4613-B819-2C0BE1EB596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A35F22-9F72-41A6-BA6B-4F77C696D5C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61945F-83EE-4C44-8608-11C39282ABC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5EE70-1DFB-4FCE-B337-689DE363483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614BD-EC09-45CE-8C8D-83B61C244BC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1326C-7B78-41CC-AEA7-BF681D928ED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D9DBE-6B28-4D06-9428-F04B04390D0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DB778-26BD-46FE-A55D-23518649450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D9D45-C21F-40A3-9FB6-34A00390E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8D5A-28D8-44D1-97E4-107A014D3BC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3DCCA-75E2-48A7-9A4B-AD21D92E4C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F680F-50FA-4D74-90B0-2AE16133B37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2B265-04F3-47FA-ABB1-CB08FD5EEEC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B5D2C-386F-4A0C-A38A-124BB125BC9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576AC-7BFF-427C-BCC1-8CF6F0B2CBE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74E4B-D5DE-4D32-AA87-D2312BE6C13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AB7AB-B9E5-48B3-9B2C-DE585A4160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C0B6-E82B-4E0F-9548-2C847F558E7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E646-0608-4CC8-925D-D362D3B0DE8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36AA-F803-44BE-9B5C-3B016EFF3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8720-AB18-42B2-B45A-E215EEA3DD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BF8C-581D-4E12-BD19-2F319A2079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1061-6624-4355-B534-0F890AA337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9CDB-6AAF-4C19-9DCB-D693CC552A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B49B-9096-482C-A6D3-62D71C9820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AAF1-76A4-4B1A-ADDB-3042FCFD6E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A00A-F4EE-4353-B7D3-E8775E79FE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74B7-7385-413E-AF34-1FA935EC36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A00C-6481-4431-A9F1-025BC6FB9F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9A41-E995-4F42-808E-7349F4D5C5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054520" y="4191120"/>
            <a:ext cx="126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Cosette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hiking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October 15, 2002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Cosette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9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5Z</dcterms:created>
  <dc:creator/>
  <dc:description/>
  <cp:keywords/>
  <dc:language>en-US</dc:language>
  <cp:lastModifiedBy>Student</cp:lastModifiedBy>
  <cp:lastPrinted>2010-08-26T01:04:50Z</cp:lastPrinted>
  <dcterms:modified xsi:type="dcterms:W3CDTF">2010-09-09T20:58:10Z</dcterms:modified>
  <cp:revision>9</cp:revision>
  <dc:subject/>
  <dc:title>スライド 1</dc:title>
</cp:coreProperties>
</file>