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CBC98-190A-4DEC-9284-EDABEAD704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8948-3E92-4C7A-BF87-F280A7C18FC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32E129-82ED-41D5-A23E-EAC69181F41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D2C63-C28D-4852-8A1F-009CAEBFB2BD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25A04-363B-4113-9050-9C8BA88AAD5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E7A2A-C959-43EC-94FD-BF87D9F36A04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B858E-4A04-4660-A2B4-C14B6294E66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676EF-7704-4E72-AB69-27EBDE01C48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4529F-28EB-4377-B833-41E6C4164BB0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40BF0-7789-4D40-8DF6-3CEBD97BB21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78AB3-2ADA-4299-BBD7-5EB9201C0CC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505379-9B9E-4A0A-87FB-39752C77C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6CC77-C749-42E5-9202-A42B8DFEF92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46BD01-852E-4279-8709-A08B5E02E1E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ACCF35-A660-4FF1-AC63-97D8D826C071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67FB9ED-E1DF-4501-9290-1508E29599F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326236-05A4-4C51-9763-879C18E6AE3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344F86-442E-463E-8007-CED450B34BF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33644DE-45B2-432B-8456-D4757820EDA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1B2862-B98F-4DF7-A423-314096E90D1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23C93E-FA5F-41F7-B64C-4E891E46AFF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B7CD8E-E8F3-4E0C-BD0D-ECFFB7E38B1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D73644-2B41-4C5F-B22E-64B7F8809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A3392-2635-48E4-8E93-A986A1EFF28D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D73EC5-030D-4446-AF59-6D043F1EDC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4B5F9-B221-40C8-A5D1-A47CD307176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33831-5871-4EE8-8F25-84649A8BF2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8CDFB-D874-448C-8DFA-D8314EE4B1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91106-F5EB-4AE6-8F29-DEC3171129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F746E3-659B-4CD8-A6F5-96B32A836BD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5E4DB-5BA6-426D-B69D-73ACBAA0A28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FE795-7551-4D6A-AD1E-2E0FDEA1C7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AC419-A992-4370-9C3B-7A1A964F05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D705A-F303-4140-9934-5747C7C85C5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17A21-6CE0-40BB-854E-0A4FA47A881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5205E-D847-46EC-8122-0C285C5017C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E906F-321D-4D02-AFFE-C1F1D098C0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97F75-115A-4E0F-9F21-CFA573866C3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AE60-4DA9-4C05-BDF3-4627598F48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5CAD-A146-48D0-8FCD-B1EF3FB46B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610D-6052-49D9-BF6F-6B9F4E0F8DA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A7F00-1F30-456D-8540-F9C26ACE849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0AA3-C943-445C-83F7-199E3D431B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DD85B-ED69-41DD-92AE-0B0E4DD96B4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24F7-BD36-4AB6-B36B-F91D0094E14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8047-8440-4C87-932A-E8790A8A306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6A31-5619-4A55-BFB9-718F1A944B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E72-42C7-4D32-86DE-848B7EA8F17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B1FC-717C-41EB-AD01-42127E4F7AD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8BCF-5D89-460A-A2BE-4366D2DAEFA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C17-74CE-4019-8A6A-BE95514430C7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0A2FD-D649-4D2E-B411-2750FE2A33B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507C0C-E427-4118-8EA6-F4139E0CC5D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C2AE4-0205-4747-9238-58C73C3BBC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C41427-8796-4BB9-BC2F-A924302B3BC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E9721-3A2D-4C40-B864-2034F35A87B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7618F-A35C-4DF6-AD98-05B29303D48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D550F-6ACB-4257-B630-1676B0C5EE1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F119C1-690C-4024-BF4F-000E6648137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4CD88D-EFA0-419A-BB06-9419A12910C5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126AA-F6D6-458F-ADC6-977BFF115D9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FAB2F7-6C12-4CD1-BE89-3C9A39CBA4A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37FAE9-63CE-4BA5-A286-1BC4F1A592E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61CCA-8EF9-48BF-9167-EBC2391BC30F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3B4F3F-C64F-42FF-8176-308DBBA7FB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A040D-36DA-4297-8090-B3DF890A603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9E4550-1CD6-42C7-A3BC-0114AD5D411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8798D-158F-4DFF-9CF0-BC417B839868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88C03D-7B01-4B90-8AFB-9CDC383EE1A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D54186-5BB7-4B50-9C4C-437A096CAFF9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1F3BE0-DBF9-4417-9518-D98854B9404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EDB32C-8161-4E4C-A3B9-5BA03EA9C2C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885008-CF73-486A-89A4-DAAF136FA90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E569B4-78D0-4658-A98D-2DE8E0C61A9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D6B9A-FC3B-49AF-A737-49CD76C19BE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299E06-66BB-49AB-819E-EFD32B7336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66D6C-E964-4AAF-AD10-957CE283C01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9D5622-8AD1-4CEF-955F-77A397639F74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883D5-A5CB-4AB2-AD91-C6DFDCA4478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15A51-F3AB-4E41-B4B7-24C105464C5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2EFD-59FB-4992-88B8-48E463DF21C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03749-CB38-4EE3-B334-750544BDC19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5D55-F1CC-4B78-9412-AD53B5AF096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5C3FD-A2FF-4022-8604-8C14A4C31D8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2548-B6D6-4E85-9388-ECEA492D89B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C4B7-1D61-4C77-8119-6E7C9F2B4562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5BAE-9B87-4325-8EC1-BB2BA9AA9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90CD9-A28E-427A-9B03-2315985C747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5CD1-C734-4C3D-A3C0-CFE2E9C5301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4665-FC20-4111-86B3-45F9DD8CE45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B956-0056-4C14-BB10-902A5EBF2F9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0F82392-9205-44D9-90F6-E775918C2F7A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20D0DB-1028-4800-8576-A2248F1C7195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B476E3-020F-40A4-8462-30FC091AE76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557AFA6-92A6-4589-974D-52FFA6803841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E134B2-5958-4715-9DC0-701611CC788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159C97-EE09-46D8-9D67-B951D390FB9E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A346DC-F56D-46DD-BABA-310349CF3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ABF6-873D-4551-B8F2-B0B77F729A1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217086-AC1B-4D5A-99B2-E9CAD13E1E3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858940-BE8D-4662-94D3-CA9B016F1D8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AED086-0381-42B5-B330-ACE419FA53B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DD83BB-F232-4200-B4A1-1FF660D59DB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4D3969-B016-4580-A1E0-0ED14E989D3A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4D391E-8B30-4C91-BEF8-574AA5EDB49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F6A93D-08BB-417D-B31E-82CF9D6A38E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271407-86F7-4A90-85BE-1A6E80EEA8E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45D341-095E-4ECC-8A50-62530090005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26017-A658-4CDC-9ED1-467CA412DD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D832-1AAB-45CA-8732-2548812D735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3228A-5131-4D7D-B5D6-EE89ACB6D553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54EE51-58BC-49DC-97D5-0B7A252C252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E8202-1A9C-4B30-8F5E-CCA587E9C56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9FE72C-491E-4669-B57C-AD1CD232AC4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E41D41-6D04-49C5-8857-9E6D3210A34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F221A6-19F7-4E57-99D0-FBBD2BF2343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92FB0-5ECC-4B14-8651-C7F3D29893B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13830-7DCA-468B-928F-1A1FD494B49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D6C58-F904-40E2-BDF3-68D9735B4D23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CF146B-2584-45B3-A046-85EDD4FF6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FF24-9AB3-4CAF-B153-984C45608A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78B2E-6637-4483-9F69-E6DA47318E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FBE62-709E-44D7-BA6C-E9EB9F3BDB7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76D6E-026E-427C-AC65-D2D825B69EA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A60D-939F-4F9D-BF6D-B635C9CE6F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6CC6-4FA0-4A3E-AEF4-C586FE35082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F24A-537C-474C-925C-902B7D122B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F97C-6CD0-4FC2-B2DE-F42899D8E4D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8FE00-F5E9-4600-B43A-B2A50841CC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3F197-5D8D-480A-A6FD-07127641A58A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660240" y="990720"/>
            <a:ext cx="3708720" cy="60195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Nam*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1803240" y="4114800"/>
            <a:ext cx="16002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Bryan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117440" y="4876920"/>
            <a:ext cx="335304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fishing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January15, 2003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Bryant.JPG"/>
          <p:cNvPicPr/>
          <p:nvPr/>
        </p:nvPicPr>
        <p:blipFill>
          <a:blip r:embed="rId1"/>
          <a:stretch/>
        </p:blipFill>
        <p:spPr>
          <a:xfrm>
            <a:off x="1727280" y="1219320"/>
            <a:ext cx="2111400" cy="281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07.JPG"/>
          <p:cNvPicPr/>
          <p:nvPr/>
        </p:nvPicPr>
        <p:blipFill>
          <a:blip r:embed="rId2"/>
          <a:stretch/>
        </p:blipFill>
        <p:spPr>
          <a:xfrm>
            <a:off x="4927680" y="1676520"/>
            <a:ext cx="3689280" cy="491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45Z</dcterms:created>
  <dc:creator/>
  <dc:description/>
  <cp:keywords/>
  <dc:language>en-US</dc:language>
  <cp:lastModifiedBy>Student</cp:lastModifiedBy>
  <cp:lastPrinted>2010-08-26T01:04:50Z</cp:lastPrinted>
  <dcterms:modified xsi:type="dcterms:W3CDTF">2010-09-09T20:58:08Z</dcterms:modified>
  <cp:revision>9</cp:revision>
  <dc:subject/>
  <dc:title>スライド 1</dc:title>
</cp:coreProperties>
</file>