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AFF3-CC2C-4284-833C-E59A40AD8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E4AF-FE13-465D-BD50-015D50C0E2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EFB2-C550-46CC-BCC0-2DCD6975E05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567B-77D8-4C28-8B54-EC995D5277B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F53D-F96A-44DE-B7CA-E46B905C87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F1A2-91AE-457F-B8FF-253102A936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AEB3-3AFF-41A3-9C52-4F9A057D026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EFB1-0565-46D8-B6E9-03015DB8B29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49E9D-77DB-4B25-A582-FDF08B25E1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B4DA-E2CE-402B-A778-F77F9E85FE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2CE3-B880-43C7-AB22-CC03B64DD47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6BB477-2E30-45E3-9BFC-72462C76B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7CF4-4978-43AB-8992-9AF94ED620C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69D35-E0A4-4501-8E45-7B0D683A6AD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CDE97-0228-4B27-BCAE-C553DB46CEF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76B47-40CA-461A-8C94-05C0183D02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067CE-C0DD-427D-8CF6-CB7CE25059B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ACC689-C05D-4C72-AD59-38C2BD0A558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359A6-1524-4940-8CF8-978A826CB59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F6E0F3-2DA4-434D-A683-4B6B0A4D316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3EE024-C2FF-4743-BBB8-F8730033F95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736AA-46BB-4609-8FB2-900F7E811D0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0CCFE-4645-48F9-B6AD-8DC3A0042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460C-2E6B-49A2-9D13-04764486D9E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902EDA-39D5-4CA0-89AD-9DBDD2636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605D-7639-428F-AD98-AE1EFCAA7F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A80F-E7D6-4C33-8698-EDA33194CD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9974-445F-4717-8216-F42ED0D1D5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0018-4A40-4BCD-83E0-C1CE046EAF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31A9-B035-4021-979B-C2E89CD02E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1C8B-2478-4879-91D5-88FBB917C9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2F76-02EE-4DDA-B139-C08E0E2599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B14C-5236-45EE-9CEA-79C3CCED7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DC6E-6C04-4C8E-B931-985043EB9A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EA734-7992-484C-B83A-FFAC08D5C6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30E1-48A5-41B5-AFE4-9BEDA895DE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C527-D5D2-4966-B4A1-3674A201A4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3383-70C5-44BC-8E82-DA84B0AD33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919-9A85-4702-B139-E44A5DF4FA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6A5-673D-4829-A955-82797905D8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72C-A9FF-4B90-87CD-16526F427C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C87-93AE-4D9A-B74F-21D7CF06BC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9E5-8C07-4622-9C8D-A99F20F802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4322-2D0F-4D26-A866-120D9E797A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440-C183-4489-B71B-7275E6C208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B1B-9B44-4863-ADE2-AA04C0E6D7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4B8-7AD1-46F2-BEE4-86064E1370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437-C18B-40E5-BD0F-084635A0BF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6D2-9D1B-429D-A02E-8817636D54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B65-1BA4-4C53-8EBA-1717544B45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A31-7FA4-42F2-B8CE-A58780821A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F101D-9FE3-4D7C-90D4-CA53485407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EC88D-3FB6-488D-85C8-76BAEEB80C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6D1CA-9C11-4391-A115-3EEE30D19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CEB2-9B1E-44B5-B65A-5F8C38E2A5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96D83-4E97-4504-9861-FDD4D62EC2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D1EC5-F03A-42B6-A323-7724BDE137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C5655-4316-4F50-ACC2-4C2F257BC2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1AD02-E26B-4DB0-BBBE-C7107EC3FC9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D26D7-D170-4630-A392-3A1C835AC9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EC25E-BA67-4C05-BD54-68F9691E07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DF24D-5CD1-4640-899F-1770F2DCFD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E1FF9-72D1-4213-84EB-49610F583B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5FE58-8D55-4C1C-B095-E3D5E6B69F9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4DAE7-9232-461A-9ECE-1E56BC069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4663-E403-4587-85F0-B86E8185F8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99DF7-E253-4E5C-B6ED-341A17A7BD0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4A1EE-3DCA-44CF-8256-2082DECA43D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F8A4E-0399-45FF-A330-0B885396E4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216BE-B118-4906-8317-BC5F9AB424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D657A-B328-4A25-B10E-8E97E714F1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8C60E-FA26-4E1B-9B54-DF07D676284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24BF1-CFB3-42A6-8890-76DDF99CFB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CE6F6-578E-41EC-99A1-9E9A7CEF60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38476-4B36-49FF-A64F-5B0BB66A88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3D7F0-E5C7-45E2-BC74-4F78C62E2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E333-5ECD-4845-BC54-E9D6CAB93D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7A52E-F498-4B07-A941-7AEA077769E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D929-62AA-4D2C-A722-ADAEA0FD3D5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9216-6AEB-4E6F-B2B3-AFF6910533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CB0D-CD8F-45B4-8DCC-0A219DC09D4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8BE8-E5D9-4922-8440-744B8647C48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E8A4-B349-484C-9449-8D5256B9874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1AFD-068D-428B-91FA-62FC02DB10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802D-46D3-4FE1-9741-DD0158FA6AF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A729-4030-404F-B27E-DE72CAB4C4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FFE1-1233-4FF5-8ACB-E0B1B2F83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7313-80B7-4FA9-8708-65D09B4D885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4297-4846-4847-9AD8-581D0AB5A1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9406-9E61-49F1-8EAB-CCC88BD1537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422C-EB0E-4792-BF10-9EA816524AF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E08F6E-7CB1-4250-9BA1-C511C10CF0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781372-0D5A-47EB-9DA0-37F0722254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FC690-0C79-4DFF-8E2E-2720E7F0734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063AF5-5A4C-4A77-9879-122B7835E1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C00B51-A83C-4536-BF48-15264999E46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1C305-B5D9-45C7-A94C-CD423FB7EE2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05348A-90FC-42A2-9472-D5598306B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3B94-94BA-4623-B241-F2DD77B8B3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80C15-DBEF-47AC-902D-3CC96C0F88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CCBCC-08A2-445E-976A-22680DB8C4A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345CE-FE13-466C-83D3-EBA3B94B03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327D1D-4CB5-45B1-BB9E-F75F097BED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423CB6-40E7-4E17-B93D-BEAD5C69BF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E7EC2-B857-484D-ABB6-3E5D2351F6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1DE18-16B3-4969-9497-F5406221465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C5BAE-02E3-4287-9CEB-0C40C23F531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6360E-BCB4-4834-919C-7424E640CD0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098A3-0266-40DF-BE98-3CA84C30A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E1CD-EBF4-4BE9-BCAE-F8D28B80D0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24018-034F-460F-BB39-4526630FE1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AA20C-1E5D-4200-AF37-CCA4D08067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CC068-8B46-40F0-A164-0B056BF6FC5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B7AD7-D9E3-4FE7-8BE3-40AD36B30A4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A1C8D-2EBD-4970-A63E-F675FD7B67C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F3921-02EF-4928-B805-61369ED19F0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3D434-CAE2-49C6-9E12-69239901949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5C14F-A5C9-4DAD-9B44-9423D36FC9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FBAD-8386-4A09-B7D4-148BD83D8FA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3005-585C-45D1-8F87-A7BA02AE2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EFAA-CF09-4745-8538-4E5BA6D242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EE30-FAE3-453C-858D-C25506C8F3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191A-2A38-4BBC-A995-A7EEEFBD5A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0A6E-64FF-49A3-BB1F-F034029E7B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751C-E831-4670-847F-DA7DC45AB1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E854-A290-4AD1-9280-B25441CDE3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37E8-BEB5-45FA-8EA4-BD7CFD51D1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66EB-3BB8-4ECD-B6B6-3287119396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CB47-30AB-4968-B6B6-5962253800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3EAB-E4AE-419F-AEF8-8BFE07F360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660240" y="990720"/>
            <a:ext cx="3708720" cy="6019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Nam*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803240" y="4114800"/>
            <a:ext cx="160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Bryan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fishing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January15, 2003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Bryant.JPG"/>
          <p:cNvPicPr/>
          <p:nvPr/>
        </p:nvPicPr>
        <p:blipFill>
          <a:blip r:embed="rId1"/>
          <a:stretch/>
        </p:blipFill>
        <p:spPr>
          <a:xfrm>
            <a:off x="1727280" y="121932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07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5Z</dcterms:created>
  <dc:creator/>
  <dc:description/>
  <cp:keywords/>
  <dc:language>en-US</dc:language>
  <cp:lastModifiedBy>Student</cp:lastModifiedBy>
  <cp:lastPrinted>2010-08-26T01:04:50Z</cp:lastPrinted>
  <dcterms:modified xsi:type="dcterms:W3CDTF">2010-09-09T20:58:08Z</dcterms:modified>
  <cp:revision>9</cp:revision>
  <dc:subject/>
  <dc:title>スライド 1</dc:title>
</cp:coreProperties>
</file>