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AB07-2F5A-4C94-AEA3-9B30BA419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15E6-2091-4CA3-ACF4-2760661835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2390-67DB-4073-A1D8-77685E6E318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2E21-ED91-4F89-9A92-3ADFB46F211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BA52-ADC4-47BC-80A9-8E3F095CEF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EA02-20E5-444F-B0F9-A6FA3FC806B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8431-2C12-4EFC-BEBE-C8BBF03A868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9BC6-4D54-4163-B791-522D5DA327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0EDD-093C-4275-9B86-54906DCBC3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32D0-B0D1-499D-8897-8463928BC77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E885F-9403-4C90-BE0A-6156F748AEF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B2341-5B28-4425-BA18-2525F4A62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6DC0-4B04-46FB-9C8E-DD70C0235F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559C7D-2C8E-44AC-ABE3-40F6A791E13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0332D-E407-4CA9-9D69-FC3B1419C9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35137E-3D8C-4B11-A2AA-3A2ED98610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1C68C-D070-4312-BDD4-F416B37A5F8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111D1-8525-4D4D-92CB-82E22317B6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51863-20B7-49ED-913E-CA443F2435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B4BB6-D43F-4877-A052-6BF15A09084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CABB8-4945-4B00-9A15-377ADFC9091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9C6A0-9A5F-4A0F-8AA7-5117490F20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86EF1-F384-4551-8176-E901F6D3F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0E1F-C675-413D-AA4D-9ABB23C874C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96E48-B1A3-4FC7-B175-3995262D3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6C9D-3136-4B41-8E1C-6B5BDE0843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B1FD-738A-4041-BEAB-66D4C29520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5654-C830-4073-BF92-70BACEB615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256A-8D53-4225-8818-23AA363299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78CB-CE83-4863-B149-41E0C549C8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38F0-A661-4266-BA7B-883E51924A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93E4-3A79-480F-AB5E-87254539CD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87F9-393B-4416-A687-E1A940B6E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94F8-2D46-490B-A903-3137F15BDA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4C35-02BE-41CB-ABA5-C6133EE7DF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2F50-C238-4786-9642-207812DA0B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CFFB-7D78-4932-8CC6-B9A8BAF718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C225-1A1F-4539-BC38-8C667A96F6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19C-2788-4098-88FE-D935B40992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9CD-A021-456B-8C46-518FDB7111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D03-F91F-4379-AF01-8C6BB7DA9C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BFA-7F7A-48B6-9626-DE5FA79D99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E77-C383-4A06-9C92-048B46CE8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8B0E-A2F9-4C35-A54A-F10DCF774B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53D-D9AE-4552-A753-F36E4D2D7C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DE3-D444-43B0-8DDB-CAEBF51C78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282-2D94-470C-8B46-65188AB4A1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56F-7045-498A-9D53-FC6DB3CC6A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DD2-2E23-4261-A9BD-8CECC3DB0B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1A0-A416-49A8-9B3A-3C6D9B49B0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3B1-790D-4D9F-863B-75A0ACC147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FC87E-1010-4B73-83BC-E45E84F2DE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52ECA-1246-49E0-AAA4-022C525F7B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AB38F-98D1-464E-B3C1-4DFCAB82F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2DC9-65CF-4F13-9027-EB42E62922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7CDA1-4178-49AC-976E-C373C8DC7F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CB02C-394C-454C-A6D8-85FDD9F9B1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E0733-C9F9-49BE-903D-42047EAC0F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5E1AF-7002-40DE-AF9D-B4237A7DF2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3DCE9-748E-4B2A-9470-0D94B4A516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49C78-DA63-4691-AC50-D933EA869A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0C226-0F63-4C23-973B-1B77F1D64A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66B95-37C5-4C0A-A6F5-33A373B9EC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CDC53-FFA6-4CFC-B8E0-3513FD032D6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59AC6-326C-491B-ACE3-FE96115FD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FD34-3C7B-42BE-9CFD-3C44CEDFCC7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FC797-1C60-4A4D-BEEE-0EA8B577E7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7B3FE-1A92-45DC-85F6-F0B15AFF22A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D921A-3D08-44CE-869C-C592F48869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11C5A-35DE-4A9C-9696-38711C7512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FCFD9-8336-431C-8DF0-CC1FA21DDCB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8A05A-C651-46DE-87CA-9540EA72952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203B4-B917-41E4-90BD-18995BCBCA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932C2-BB84-4DD8-9862-594A415212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94DB4-9781-462F-A680-9101CD0D8CE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5760A-DB5D-45D8-B403-FB029CEB4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1CC0-C45D-466D-966C-18F4AC1A114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ED870-8251-4C50-BF2D-3DC6E8BD88A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D233-1327-4007-A256-2D1C7E17867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7B46-82E0-4FA8-AAD1-B0BCE66CC54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D499-FFE9-436E-82EB-26AACE0777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C82B-B1DB-4CF0-BC0E-9637820CD1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D020-6A3F-4DB0-B0E1-A067EB0D28B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77A3-17A0-4EDE-BA4A-3A2DAC7DC4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3B50-BA18-4F00-AB1C-FBBFEAD152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D08-9E19-4754-96C4-FA39B93D064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671D-15C4-499E-84BF-2063E4D39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82E9-1998-435A-BC40-275BC2E2F3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8CAF-3A89-4B56-9ED5-8525B8A986F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7982-348E-4218-8F97-63FDBCD2F6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F22-A31E-4909-9085-037EE97F8AE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C58EA-241D-4701-9D10-779FA3D795C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DA37B-47D1-4112-A11D-5716E5F5FB2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762E7-2E54-400C-9326-14F3C00024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9ACB0-3753-4B10-9241-FF97B2BDF2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64683-11FB-4E27-B498-66EACE9520B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6D057-27C5-4CB6-A33C-89FEF50993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75C61-CAE7-492A-838D-746DCC187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916F-48AE-452C-9514-78C8F94841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18D56-4D1D-4FF0-9C1B-BBF1DB4556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4209F-F8AF-4DD5-984C-8C0C3DBE605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F49A9-21B9-4C78-982F-FAC897396F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792FF-F47F-4DFE-932C-8BE2B016056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436FE-244F-41AD-A3D5-11595B88EE0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C4A5B-2078-457E-AF74-0EF0B1B43B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08F92-917B-4248-9EE8-77CFC5D586B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574E3-58A2-48AF-B067-95D6C72CFE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597DF-68B3-4098-84DB-DDFD8A1BC3A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91F6D-B989-4A78-A9EA-DDB23D1BA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163A-65B2-43C4-9E35-2FEBBA25F1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954CC-EF0D-417A-897A-E0D44FFD5D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92ECE-F481-4C33-97BB-4B26C39AD3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164A6-6000-4FBA-8129-5C68ECC05C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4649A-29F5-4A3A-AC4E-59B0902D5C8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76DEA-9FDA-4C06-98C9-3C779AE9E7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C4254-18CB-4333-A79F-DBF162B3EE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88A5F-5780-4EAE-BBD5-2780402C69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DFAD-2841-4524-8840-06A1D2CDFF5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0AAAD-2D10-46ED-AE78-329B574103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DA0D-C8B3-4A03-9F19-5B5ACC130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DDE2-800B-49FD-9DE0-02511B38EF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ACD-8F1B-4AE0-828D-B05629BADE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214F-308C-44EB-A93D-E33FF0550D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30F3-C0C3-4138-98A2-5F09EAB9D7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B408-4D52-4A11-A53E-862E06528B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3C7D-6B1B-4DDD-8655-7FCEEB00D0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CA24-058A-485D-A26F-5CA8A3D19F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1C46-7FDA-45EE-B7CA-79E7327CE1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5CF1-2228-4039-8D7F-3119C5258B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7DDD-ACFB-4384-999F-6E676017D1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660240" y="990720"/>
            <a:ext cx="3708720" cy="6019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Nam*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803240" y="4114800"/>
            <a:ext cx="160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Bryan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fishing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January15, 2003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Bryant.JPG"/>
          <p:cNvPicPr/>
          <p:nvPr/>
        </p:nvPicPr>
        <p:blipFill>
          <a:blip r:embed="rId1"/>
          <a:stretch/>
        </p:blipFill>
        <p:spPr>
          <a:xfrm>
            <a:off x="1727280" y="121932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07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5Z</dcterms:created>
  <dc:creator/>
  <dc:description/>
  <cp:keywords/>
  <dc:language>en-US</dc:language>
  <cp:lastModifiedBy>Student</cp:lastModifiedBy>
  <cp:lastPrinted>2010-08-26T01:04:50Z</cp:lastPrinted>
  <dcterms:modified xsi:type="dcterms:W3CDTF">2010-09-09T20:58:08Z</dcterms:modified>
  <cp:revision>9</cp:revision>
  <dc:subject/>
  <dc:title>スライド 1</dc:title>
</cp:coreProperties>
</file>