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BC41-D932-45DB-98E4-116B879F7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B638-B3C7-4878-9AC7-A31F0280C2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4F15-0EE3-4AEE-8800-C25DF13642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AE03-B16D-44CE-9319-FA48E023D0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3925-8CF3-48F4-9A31-E682CEE76F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A050-7274-44CE-8FE9-D5325FA37A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B593-AC28-4C36-B4FB-9F7A6E7452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5C02-DA22-475F-950B-13EA792755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1116-84EE-4897-A187-43BD23E9AA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F55C-1F71-49A9-AAB2-6FD82B9F1E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850B-DD21-40DA-9F08-0E43FA6924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775C2-85AD-450E-A0B3-74789C96D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8D63-1A97-4437-BA5F-CB3732A03AC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B7F2E-496B-487C-BFF3-CECE2E1D510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91A91-ABFB-4F17-92C3-B45A827AC8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E1E54-3B88-416C-A33A-351E390854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9E77E-9E26-4542-B2A5-9993CB3BB7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B6233-C7CC-4F17-B8C9-8FE7FBFC50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AFDB6-691E-4F11-B92B-9D344303B8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97B32-AD1A-46A0-8662-FDDAC86E330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787A6-8B9B-4E02-94BB-156DF33757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E84B6-9F6F-4AB1-B9C2-DCB042A35C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E0019-44A4-464B-B3C0-868E76333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C449-ECE9-44AA-9EE1-8BEDE31996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8230C-F513-4C09-87D9-5A935544C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C13A-7A71-489B-8D0E-BF742F6B13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2206-193B-4D79-B7AD-C629A121F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7B98-0925-4258-9E47-82DF74C8B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D5DE-0DA2-4202-A968-389659062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79E3-4E6A-4A04-9A97-8259CF3BD1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AB2B-ABBD-49F9-90A1-DDF57AA53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5CA5-898A-4692-A5AC-13970C3D6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DEAC-DDCF-4A9B-94AD-2C98B1411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755B-D6FF-4BAF-BC38-FEEB5D5B08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468F-A126-4764-9ED3-A922BF012A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5291-4624-42BE-A3EC-F925F3622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0799-418B-43A5-A16C-6F4604E30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2E58-7530-488B-ABC2-40E9E7CA5E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3C3-1C58-4CC3-8E9C-6449148933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09B-81DC-4E2F-AF12-CC61CBD017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65A-6FB9-4CD6-A25F-599BC873B3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DF5-FD6F-419F-851D-56BC0768F6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E74-DADE-4391-807D-F85AD959B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B474-3B51-48B8-9FBB-A807AF5B35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8AE-71D9-4F32-9DDD-D647E56D9F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829-B742-459F-8A15-230C0BABB3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660-D5E2-4699-AE54-5032C49D3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1B3-E53A-4551-9450-2D66A2058A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8D5-4421-4D3C-AA2C-302EEA252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CB8-01A5-47EF-8458-069DF0A615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C14-2BA4-46FE-86EC-B00645B2E8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9E42E-EA7F-4F6D-8828-F10EC0C91C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4F63D-425D-4D94-90E0-33A46A355A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EC13-DBC4-4DA7-B62C-6684F4511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1E0F-FFD0-4D04-A3A2-7F8ED4D4A6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4DE01-C72F-4A2D-9819-B79F2FD941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D059A-0098-499D-B605-05B22A2525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2032-4BD3-48AC-9FE6-49546C1D41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7BBA8-9607-4808-909F-E92B70046A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71E7C-9383-4B1B-BBE2-C2374E6CCE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722FD-B669-4CEF-90E3-BD1E607351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D7EF9-D72A-4A63-8E3B-F84FB3A864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AEAD4-3289-43CB-A98A-1F7A5BF06E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FBFBF-7CC7-422A-8635-E7C3AA98BF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359B0-78D7-44BC-B4B4-28C38CAC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2481-85AC-4571-A458-55D109EE0C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B6EF8-1BB0-40B7-859C-5656ACFB65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8AB0-E82A-49A2-BBAE-30AA1DC328A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4EF7-FBC4-4D77-BCCF-C538A73D49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30F05-00CA-4094-AC11-B52D0FA5A1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5C15-415E-47E8-93DA-636CF47063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6703-7395-4E09-AA08-EEF7F7C90B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A7B22-7763-45C1-9385-3C029416555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A706F-3175-4DCA-A654-02FC954609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92D1A-5393-4758-B67F-525F1C1693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600E-2B6A-4FB9-AC58-AE786CF9E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957A-9C9A-4C3E-ADF8-3DB104E56E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C397-2F8E-4260-AADF-36E1CAD3C6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A821-653E-4061-9C24-DF8FE45301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D8C3-3E3D-4EFD-B159-161CF52770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58C3-BFA3-4062-9D06-8EA70BE63A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7B8A-9F64-4572-9356-F915B242AA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5DE9-675D-421F-8B40-0CB60FAD04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9D9-E5BA-43EC-8A89-A9D7BC8692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3CDA-BA57-4634-9D46-D905A84B79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22CF-94BB-47BD-91E5-96954E6478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91A-9917-424A-95C1-6D75E2560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A642-DFD3-4171-8F98-1A524E57906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D85-2D74-44E2-B9EC-725DF39A50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7300-EE69-4AB7-A5F1-227C5858A6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0F25-8FBB-48C9-BEAF-A331922356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0B77C-E9EE-4507-B174-3BF34DEF22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89655-4BBE-44FF-A10A-59431A6956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DA261-EF37-4B8D-A39B-07FF435700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F569C-73BF-4E75-9A03-1AFD67F72A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29782-6C8E-4D78-9ABB-28DE89889C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C122D-7E71-43D0-82A5-9285F2819F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C93A9-B492-4BB1-B8FD-7D2C5EFEB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4F6B-46B3-4D4D-8684-03C7BEF320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4F08F-2B74-42C9-9EB3-17D6A5A092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94386-3F49-4614-8669-FE8C070EBF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7A6EB-B2B4-479A-A922-17C2E57792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EECB5-7834-4DA9-8049-DD93E615F0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43E1E-6BA3-4108-946D-EBAC01818F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0EA29-E664-4508-B251-2C8645D67D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3FF37-C3D7-491C-8FFD-00A702E282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D94FD-BAC1-4B16-AF6D-923FE54501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B94FE-9682-4F0D-909F-9EB41843772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6D3BD-9C4F-48E4-8DED-BC54BDF41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EA53-0674-4DA8-BAAB-E9F6C58E1A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EC3B9-1A8B-47BD-BCA3-281358486E1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CF346-1D62-4947-818E-E9F8E6473F0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11197-B3FA-4A55-B4A5-2FBCE39FF6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A022A-DCF2-44EE-BE07-09504C389B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4C376-5F00-44A2-917F-F3772F80F80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F7F36-9881-444C-8705-7F2E84A81A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13572-73A0-45A3-9DF4-6BEA9806507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5016-C04E-42C2-AAC6-A18A32BF028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981C-9AAD-4BF0-A0B8-473823DEC5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89C6-4411-497B-8145-D5A8688C8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5D1-78EF-4432-94C4-5507C4DF93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AAD0-504D-4EF4-8602-5BDF6730C4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56C-5A24-414A-8A8A-B33E26F9A2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901-EE67-4B45-A8CE-B17765BC54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746-4E1F-41E2-A252-79CDBB6BD0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4E2-44ED-4129-B943-C822C29085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763-FA0C-47F7-A7CF-D5D88D841D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325-43D4-4A8F-ACEA-48BD33B4E3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C4D-E873-45C7-8D2C-4A2FE50456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BD9-B098-434C-BA9C-4F91126A27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36560" y="1143000"/>
            <a:ext cx="386100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160" y="419112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adle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88840" y="4876920"/>
            <a:ext cx="3733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ootball.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   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September 23, 2002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adley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5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11Z</dcterms:created>
  <dc:creator/>
  <dc:description/>
  <cp:keywords/>
  <dc:language>en-US</dc:language>
  <cp:lastModifiedBy>Student</cp:lastModifiedBy>
  <cp:lastPrinted>2010-08-26T01:04:50Z</cp:lastPrinted>
  <dcterms:modified xsi:type="dcterms:W3CDTF">2010-09-09T20:58:28Z</dcterms:modified>
  <cp:revision>9</cp:revision>
  <dc:subject/>
  <dc:title>スライド 1</dc:title>
</cp:coreProperties>
</file>