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C6CF2-F547-4CB8-AAEC-9637050B29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DA680-9D98-4B20-854B-3454EBDAA8F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2C9B1-D0C8-4622-B8C9-28926C70D1B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5A383-D249-465F-8C44-8835BF24ADB1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D0BDD-E895-43B2-803A-CA62E5D9498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165E9-9654-4CE7-B00B-4450113B7AF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5941AB-F9FF-4BAC-BE41-2916B838982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A099FD-3593-4E10-A4CB-5302E282AE54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E6177-4924-4C4B-9A66-C97DD3F8738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3FF5A-AEAA-4014-A52C-8E9A668ED38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5D103-8230-418F-947B-02B5493C415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F20D17-D2DB-480B-B30E-FCF84343E5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E5464-02A7-4B62-B007-83C9924184B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BD7F4A-6801-4AEC-80F5-77C5D725F48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F2200C-1291-4EDE-8838-5B210C62B51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62FA0A-CDEE-448C-BD1B-3FFD4F108F8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A228A9-4706-4A47-876D-1CC536EB6D2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CDD32D-3CD6-479D-BCA2-920FA24CED9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54B716-1BE9-4C9C-9DA9-8E2452C4591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8325D5-FB66-4392-8598-24E711095DF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2B1B25-9875-4BF4-BDBA-D0CFEA3AE99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68DBC1-2E46-4BFD-BBF3-1C647802E8F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7930E7-21C6-4BB0-9965-DC6E602837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BC854-B915-4D6D-98D2-3AD98B4ACA1C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1422C1-7E25-4FC8-8153-D61B2D20FB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7BBA2-39F8-4238-9B8F-307D1F7A484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7BC4B-5F50-40E5-88B5-E48297165FB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40307-28ED-4F33-8D3A-37EBE33FFD8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AD0C6-E062-4666-A801-4490CA7C67E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806F3-51EB-43EE-B5F9-0F16EBE413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149C2-6D5F-484A-A145-F8CAE937026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573FF-E384-41AB-B7CB-047C39AFDDB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5B7C9-F867-4A88-B5BE-23AC32E2BA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37EED-E918-4E5E-B3B1-F8B1235F18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C3036-15D4-4CBF-908E-D8F25D8433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80E69-5845-4CC5-9AF5-E8CCEDF3BC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21210-358F-4C26-B22B-FD7DAAFF25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3021B-D16D-44AE-8E5E-A7998DF8CF7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5EB2-85F1-47B6-88E6-2CD5BCAFCCC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A5B2-985A-4CD2-8805-BA6C6A55797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95AB-E6FB-4241-B15E-03666520775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8AFD-581A-4DF9-9BA0-1C69EC74AC5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6773-66C5-453A-A8C3-DEA1D9CBAB7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3917C-F374-4164-9E55-D441FA55C44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30E7-DFB4-403F-A15C-2CDBB267CC9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AAD6-A1EB-4220-84BB-BC849658438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F732-3158-4566-AC30-A1352B10453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0069-1DBC-4EBD-A231-07B88BD3991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BA6A-13FE-4082-A4D7-74CAA2F2795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E1AF-C294-4646-A047-35D842B7E5A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0F4B4-7C21-42CF-9674-7E101C7D71D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B77F55-8B22-46BF-9544-CCD7DEA5AA8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AF0B59-ABBC-47C8-9FB7-7B84C7509E2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0D5942-15C9-415F-A735-7E57615629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1EBE9B-C6AA-4C47-8BE8-A69E410B794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CBCA27-8978-40CD-9063-4C993F62D58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C859A9-8CCE-4AD7-80B9-02BA6A62523A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2FF166-D451-49C9-ADC3-9C002724BD5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9C2B5-F8F4-40B7-8DFB-2C0153F04B4C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AFBBFA-DCD5-4697-A0B6-1F0E142F642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CDEE5-A0FB-43B5-849E-3ED6F3B086C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245BD9-DE3F-4AFB-BD8E-36424EEBAB7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4B85A6-FF28-4232-BB5F-82F69771A1A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5BD6B0-6A0A-4E61-845F-FC116921E16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1E4AAF-B526-46A0-BE5D-AE43C08685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B89B4-17DE-47D9-BF45-C03BFC4D258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318069-A211-4A2B-8987-7B0C678EC79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FE6E5E-7C82-4D3A-AA66-8CE5142C839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10017-C1F8-4FA8-9F9C-6BE80327F23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217A8-A7E3-420A-BF43-602183E9F4B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E49C55-0912-42B1-B75B-60C4CC2E152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C8F491-2630-4120-8480-D01CA04E67F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110844-09AD-4103-9BA2-6E2ED77A9AE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B12705-3E3D-420B-AB3F-FE04A6AF71B6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91CB3-0230-4E27-8A5C-D171464EAC4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D45D59-5B6E-484F-B45D-448D241F8A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F2D2B-B554-4888-AB2E-B5990DC45611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90B172-D5FE-4493-9183-7A593EBBAB7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C57B9-60D6-4B62-A23C-D3FDF3B5C46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E3D14-AF9D-468F-ADB3-EFECB10A18A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AD3CB-288E-4711-8747-F9DFA504AED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2D0F-D98A-4ADD-AC0C-383C7541E75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B2132-56B4-4468-AB11-3AE7782B698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9D38A-ECBA-44F8-AF89-CCFAEA62662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6AF72-EB08-437B-A7BB-D80BDBEA977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E2C1A-D50D-49F9-A30A-F89930E4888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DC7D-0D7E-4166-A6A9-41F858A24E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FB428-1140-4D66-AA54-B68DF82ED89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910D-488B-4687-8D72-B7ACD001210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020B0-FF2D-429B-AC82-EF778BB9344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2100-F237-4492-9F8D-B0494271A9A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7F806D-5AAE-45ED-9CE0-1B81973BB9C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691BA4-1393-45FF-983D-ECE326F5486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10BE0F1-31EE-4343-9D4E-04CABC0C222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C2FAF3-4F20-4563-83B6-74FEA768F6D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C83C6D-7071-43E7-9494-8F7ECB4D861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07799B6-AF75-4D2F-ADE0-DA5575DAB12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AACB47-F68E-4B8B-8D29-87978A2EFD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26DE9-B3FF-4A02-9A8C-DB0818CC8D4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20D633-F429-40F1-9961-430A1A1B6F7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0E2CB2-6B74-4354-8F2C-01813CE4D8C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ABD2B4-B2B7-470A-8175-635AD8EA91D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F7A69B-6DC1-427E-B422-64C04EA1B75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EC9230-939D-4517-8F3F-22D7B921471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F456AD-D664-4C2C-915D-E43BA415147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703DC6-718F-47EB-A789-FACDB39B8D6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3EC22C-7969-4E1E-A047-12C6658740B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C4035A-F054-4185-9F7B-40D9CC90096C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273DCC-DDDB-4149-A478-E2A457D52D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8F2D6-D59E-43F7-9D1C-9AC578A094F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9F1167-C53A-4D80-B9D5-D18EE6AFA56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947584-4BC3-4B76-B15C-06062BC53D9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7F8E84-5FFD-478C-BA14-8F581E97B71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0CA934-C281-462F-ABDB-5D6D9008FE5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223162-3578-4ACC-9CEF-CEA6EE2C9DF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E4B3CC-CBB1-44BA-B73E-6B332F8B6A0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9C094F-AA78-4F5F-9012-4FE31383937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0B174-82EF-47B0-B1D5-07545131F742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2DB0F7-4FC0-4F3C-9871-9B841F4B6BC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62AE3-F272-45E2-A1DE-44B44A2207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698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10270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4716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9162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BA73-1854-4C6E-A8E6-9E1191C5D6E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622440" y="622080"/>
            <a:ext cx="8889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698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10270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4716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9162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Num" idx="10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4058-EE49-4584-85BC-CBBB69B173D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2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8912-E12C-4C05-8537-74E0D35EEA0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ldNum" idx="3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5A9DB-4E73-4834-BE9A-09F90E8DECE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2440" y="2527200"/>
            <a:ext cx="88898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ldNum" idx="4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01DC-84E7-41C0-8596-CCE69BED632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2440" y="570240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Num" idx="5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963A-A7D0-4599-878E-A7BA9DCD58A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2080" y="622080"/>
            <a:ext cx="444492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22080" y="3797280"/>
            <a:ext cx="444492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7000"/>
          </a:bodyPr>
          <a:p>
            <a:pPr marL="263880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6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12C70-2D62-42CF-AE84-1761E29B53D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22080" y="1257120"/>
            <a:ext cx="44449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53568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96516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38312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80108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7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004E-2332-48F6-B2E1-EA6AFC038E6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22080" y="12571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152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8316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19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55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8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FEC4-5478-4A73-A5E4-7DB1DA6FB28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5702040" y="12571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152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8316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19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55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sldNum" idx="9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6C99-99B4-4378-A11C-E71E0E52B34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  <a:ea typeface="ＭＳ Ｐゴシック"/>
              </a:rPr>
              <a:t>Self-Introduction Card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736560" y="1143000"/>
            <a:ext cx="3861000" cy="6019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2054160" y="4191120"/>
            <a:ext cx="1267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ヒラギノ丸ゴ Pro W4"/>
                <a:ea typeface="ＭＳ Ｐゴシック"/>
              </a:rPr>
              <a:t>Bradley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888840" y="4876920"/>
            <a:ext cx="373392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I like Football.  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My birthday is      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September 23, 2002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4927680" y="1143000"/>
            <a:ext cx="3708360" cy="6019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2276640" y="7189920"/>
            <a:ext cx="974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(Front)</a:t>
            </a:r>
            <a:endParaRPr b="0" lang="en-US" sz="20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375240" y="7162920"/>
            <a:ext cx="97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(Back)</a:t>
            </a:r>
            <a:endParaRPr b="0" lang="en-US" sz="20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pic>
        <p:nvPicPr>
          <p:cNvPr id="394" name="Picture 10" descr="Bradley.JPG"/>
          <p:cNvPicPr/>
          <p:nvPr/>
        </p:nvPicPr>
        <p:blipFill>
          <a:blip r:embed="rId1"/>
          <a:stretch/>
        </p:blipFill>
        <p:spPr>
          <a:xfrm>
            <a:off x="1727280" y="1295280"/>
            <a:ext cx="2111400" cy="28162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0" descr="100_7525.JPG"/>
          <p:cNvPicPr/>
          <p:nvPr/>
        </p:nvPicPr>
        <p:blipFill>
          <a:blip r:embed="rId2"/>
          <a:stretch/>
        </p:blipFill>
        <p:spPr>
          <a:xfrm>
            <a:off x="4927680" y="1752480"/>
            <a:ext cx="3689280" cy="4919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20:39:11Z</dcterms:created>
  <dc:creator/>
  <dc:description/>
  <cp:keywords/>
  <dc:language>en-US</dc:language>
  <cp:lastModifiedBy>Student</cp:lastModifiedBy>
  <cp:lastPrinted>2010-08-26T01:04:50Z</cp:lastPrinted>
  <dcterms:modified xsi:type="dcterms:W3CDTF">2010-09-09T20:58:28Z</dcterms:modified>
  <cp:revision>9</cp:revision>
  <dc:subject/>
  <dc:title>スライド 1</dc:title>
</cp:coreProperties>
</file>