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BEBE-9B28-41B2-A925-2249F3EDA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242BC-2244-489A-BD84-F58C97A7FCC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F9C84-34AE-4A4C-852B-316AFA16589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1CEC1-F9CD-4EA4-9768-75412C3AA7D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25194-7A22-41E5-AECE-6BB21CE37F1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907AD-7BA6-4A9D-8DD8-11D2C891C88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5DD8C-B4A1-4D28-A426-D5F2889F4AA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783FF-89FB-4CB5-A00B-006DA6EF3D3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2AD97-9A4D-4144-9649-4F60ED3224B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AF1E4-BFE3-4B11-BAE1-39A5A5C4E4A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1A931-15D9-4707-A43D-831695EC84B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78EEB0-CEE6-4452-9E98-D592BD096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9636-3888-4081-9D9E-7502681D41D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9E885A-3B7E-44BE-A51A-E05ADF28450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7053F7-5F2B-4B94-B7F7-F3D014559EC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102E07-9196-4E1E-9C19-28713E4E147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000F00-8B6C-4F68-BC69-A3DD5F91FED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4CC2C9-E9B3-4692-8E96-99AF067E7F0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B3F25B-25F7-4FD6-B143-70DD8FC6E6D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5D524B-5A51-4B5D-9838-5ECF4854A38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FD0446-6BD2-4B73-A7F3-78A4588B08C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64F5D8-456A-4149-9D51-6F22632D63D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B37981-06B1-4861-9033-9F280FDFF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23E6D-606E-4493-8609-8159846A655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6691BC-5198-43A0-A595-C97340071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D69A1-2E6C-4566-B678-DD934ADDAC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E2E86-C93E-40BD-A2E1-BD31543938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A9AE0-F248-4885-94BE-5E3775F91F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AC7ED-16CF-4E74-BC7D-DBBAAB2C87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96E73-5D3E-47EF-A1A4-72D0DCF465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D2075-61FA-4A0E-ABAA-46F088870D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A150D-448E-4C2D-932E-B0EACD426C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812B-E314-4E5D-95F3-9B2003FA7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9BDA7-F179-4F10-BCF2-C009011A5B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D95D8-F111-4126-B03C-8F98110FFF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C6637-0AC8-4DC4-9EF3-EFA0E7EFEF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80DFD-111D-42A2-8C9B-9ECB2C2173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644FE-F4ED-4734-BE4F-91B78EBE96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713F-5562-4A0A-8081-397CB1B8BC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AA90-A9A5-4A61-A5F7-A32BEB83D7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B54-8BCC-4584-9053-0105234A7B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CBA0-6727-42CF-A35A-C318B92650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6C71-3598-45AF-B0C6-6460F5D92C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0513-7A6E-4B78-89F9-5CB6B5E840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810-8041-49D7-8A75-633F5FB032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5DB-F9F6-4520-B285-59F88FE854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4C82-FAEA-437F-A94E-3DBA09386A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6A0-A85E-49E9-ABB4-E0BC4E901A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4CE7-49B2-4F5E-AE47-26B21126C2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185-970B-4C40-91A8-26478B414F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D7B-16D5-4024-9BED-7C0E5B5791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C426E-1CF1-41A8-9AB0-CBF1FA69BE3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77BD9-2E8A-44E6-8C8D-2FD247B3EA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BBC31-6135-4EFA-9393-4556E11E1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5FBB-110E-4054-9150-4B61875934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BF50C-024A-4EF5-B2A9-E6A0AC342A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B6B24-2307-40E4-9417-2D2BA2624DB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9F8AC-A566-4D8F-8EA5-D3C1325786B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578F2-E23C-45C9-8BD7-4FF49EF2B3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F5B7F-CB5D-41DA-8163-5CB9002071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FB603-D7DF-4182-A5E5-FF9627BE83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50A72-ED2D-4727-9DB4-79A1E68D4DE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60A52-47CF-40A8-9948-CD4F480283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CA641-9D83-4211-AA96-66D59016356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8E17A-7646-4AD2-B9A0-6C09028AD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386C-D0A6-4F53-8E5E-98F0766CFEA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F19CB-7957-4304-A2F5-72ED0F373B2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45861-782E-4673-B694-698C08E86E8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6BC05-2AB2-4950-A11C-246AC23E7A9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2F8F1-6F71-46EF-B772-46930D8398E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386A5-BAB0-4802-9505-DB942BFA4FD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7B1B1-E18C-4BDE-B106-EB4717C3F17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158F7-679F-4A28-8000-A914ED977A4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1D8F2-6ADF-4D60-92FD-CD1D46BE255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3A73E-1612-4C9E-8ECB-0B647EFB59D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B830B-BAD1-4B14-86A1-7ED4A1C75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AB270-1410-401C-9FBB-E1A7E35BE9F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CA7FB-4B52-4E11-BCE4-2FF6B111E74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69FE-1039-4BD5-88BB-1FBD747379C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F59B-1BB8-422E-85FB-4A14A4477DE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ABBD-8D22-40C2-BBDE-6F45D613925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03B4-0F54-47CA-971C-1A88291FD73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2343-6337-431D-B13A-07F0495C469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6C40-2B1D-41FB-86E8-010A59F57FD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9BA6-5DB5-4B2D-ABAF-7ECCE52EB1F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8CD9-9B95-48E8-98CC-D87F7F77495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0807-1D56-46F0-B60F-858BE01D1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4EB23-16B9-4950-AA73-4F1D6126A8D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44D3-CFDF-480D-AE3E-AF7C0FBB4D7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2199-9774-4E57-ADEE-2B0BF5AB50D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AA65-CB80-4621-B148-ECC0408E61D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F5CDD8-1BAB-4B0E-B1F0-186870FC081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9998A1-43FE-4DD3-8FEB-9BB7A6A5793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95DBA3-DCB4-4491-9095-7360672A8C9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F11FA9-49F0-4226-9335-6D0830D49A2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A5A203-B40C-44BA-9F83-6D9FB568FBC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331542-B242-4BF1-9AD3-FA04213C5F1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577C3A-9F6B-49A1-829D-073EF3FEC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21BC-EC55-48FB-A994-9E9F718C45D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EDA8F0-62B8-4DA4-B858-DADE80457F5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540BAD-BC60-4D41-BAE8-5704CE888ED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63A64D-E526-4B42-B873-C20338AA822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BF204C-07B2-4D4E-AA2B-37A433CEA2E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785C1F-D1E3-4F4A-BA8B-2D2052D2288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28350-67F0-4E0E-B6C1-6118CAE25A2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E1785-7F14-4354-89F7-43F1747CE9E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20467-C3BB-4341-9DFF-163CD15D25A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5ADCC-BF80-4FD6-829A-DA9FAC218A0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15234-B638-4256-A3D6-C03417490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5405-7602-4CDC-AD48-581FC8C0A0F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D495C-607C-494E-88BC-CCEC04FFF8F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05A0F-1A33-4874-9B00-4E4E67F5E2C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A21A6-2D9A-4336-AD04-D9547C48B18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F6231-88D7-4B5C-8D12-7C577BAF9F5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36713-9868-483C-8FE6-6388A10D0BD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929C9-4D07-4118-8597-095AB303E7B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F94B3-F134-46BE-8450-D693EA99154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6DC89-BA47-4EC6-820B-A748FE5C071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49C18-E904-4504-806C-2E277640E6F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28E1E-FD54-4E8A-BEE7-C2995748D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7555-83F5-4589-8E9F-31EC515534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6014-4538-47CA-9ACB-988C33AD1F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D359-8E12-477E-958B-1ABC954BD6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CC49-3A93-413F-BD5E-2AC54A41A5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0E7B-9176-4668-A7B8-2634B1BE71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A06F-559D-4AFC-8DD0-1E669985E6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676F-D8A5-492E-95B3-6C6AD6E9F1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C984-D7AE-4654-8834-AACFDF8D68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C636-D3B2-4933-B0D0-3DF975BA32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458C-684C-4180-B67C-DFB2E097D9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736560" y="1143000"/>
            <a:ext cx="386100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054160" y="4191120"/>
            <a:ext cx="126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Bradley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888840" y="4876920"/>
            <a:ext cx="37339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Football.  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      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September 23, 2002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Bradley.JPG"/>
          <p:cNvPicPr/>
          <p:nvPr/>
        </p:nvPicPr>
        <p:blipFill>
          <a:blip r:embed="rId1"/>
          <a:stretch/>
        </p:blipFill>
        <p:spPr>
          <a:xfrm>
            <a:off x="1727280" y="1295280"/>
            <a:ext cx="2111400" cy="281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25.JPG"/>
          <p:cNvPicPr/>
          <p:nvPr/>
        </p:nvPicPr>
        <p:blipFill>
          <a:blip r:embed="rId2"/>
          <a:stretch/>
        </p:blipFill>
        <p:spPr>
          <a:xfrm>
            <a:off x="4927680" y="1752480"/>
            <a:ext cx="3689280" cy="491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11Z</dcterms:created>
  <dc:creator/>
  <dc:description/>
  <cp:keywords/>
  <dc:language>en-US</dc:language>
  <cp:lastModifiedBy>Student</cp:lastModifiedBy>
  <cp:lastPrinted>2010-08-26T01:04:50Z</cp:lastPrinted>
  <dcterms:modified xsi:type="dcterms:W3CDTF">2010-09-09T20:58:28Z</dcterms:modified>
  <cp:revision>9</cp:revision>
  <dc:subject/>
  <dc:title>スライド 1</dc:title>
</cp:coreProperties>
</file>