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42131-0881-43FC-876D-40C665C9D1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7A62E-FD15-425C-9D91-2D74E89428F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7434C-B276-4A1C-A3BD-E64B2BD81F9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5C3E8-5530-40B2-8558-A66FD0BFBC3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FAA41-035F-43B0-95BE-5AF88C010FE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08B1DC-ACF0-44F4-BE1D-F29252878D7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79BB5-8B32-4C67-ACCB-B12FDC64FC4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9EA5B-8B22-4BBA-9B9F-D2B7F092454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4D64-BE71-4E1A-8C89-82DDB984BCA4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87BE1-B691-4740-B18B-D73F43031A0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6CEC3-3E6E-45F8-B98F-7E94244D0F0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C3C9B3-34C8-4B2B-9133-D0BD31A9F4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512FD-D9F8-4975-8870-685F282D614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CF084-ABED-4480-A3FB-23C5EEC7328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2BB822-EDBC-419E-96D8-FDE48A03293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E178CC-9AD2-4769-8044-4D4BF46C7FE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404D98-27F9-47AD-8157-11BE2EABE20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26BEFF-A9C3-416D-89F3-34EEDEEB89D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7CB5FC-0424-4E94-9C0D-CC6603203064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C66E96-903E-4A2F-B4A8-38B2E8CB72F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B166A7-706B-4B5A-92A8-837D91C11AD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A7CE03-D921-4ED8-8388-D1F68F1C629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66C2479-9C83-4FE3-8547-32ACFDC375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02A6-2DB7-4050-B796-80922CE66D8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C0541-0D99-4F76-965D-40440C2A94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541C-678E-4B93-BA35-96983152AE6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3C137-19B8-487C-9098-58618F0F9A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44EA6-E88C-4277-8C15-56A70887AD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EE0F-29EB-4429-9FC5-929B56F6AFC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8E908-9291-483B-B93E-54B330B9A7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298BC-72AC-46C5-92F5-87E3C1000FA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A1B69-51D3-45D8-85E7-F9D8EA1C52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E5293-DFF9-4033-A92C-4BB40552B1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2D222-E3B2-4690-B3EA-6D790B58D6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BF6BA-F50B-406F-9460-CE6B404CA63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B28B8-F77A-47A2-8655-E0FCEFD08F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DC5D3-816F-45D0-A7AB-465FC429D73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8494-B11D-469D-8AC7-868C0EB4471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08A-2C33-46BE-9D64-03C15F8419E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5359-0808-41C2-A8CE-887AC4A5332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9D95-8239-4929-AA27-15B0D1B1B0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A52-1C32-4A6C-BD13-617A159623E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0604-06A9-4A53-B7B7-0D0266FCCB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AC21-CE5E-4BD2-9F76-7A0A8C30D06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8F3A-1C55-40E7-A3A4-463C690DF30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BEA4-0A76-43E6-B340-7E2A8F67195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1856-8DB2-4827-B4A1-8E980D387B6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AFCF-3A56-46EC-98D3-015B9E88FB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BD20-ECC6-4E89-9941-9958D3CEED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579-575E-4E47-B41A-560C2C478E1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F53F-9A6F-4C2C-AC3C-4CA1D018AA2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6281D-7351-4AB7-B71C-C4E2D95FCBE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2B9F9-CF8E-4C6E-8A37-70BC6EF7DC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B9ECAA-2CFF-41D4-89C1-BB4A75FBC3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4680B-CB7D-452C-8EC4-2615CF997A2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21A5-81BF-4D84-A216-3D207C6DD8C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CDD167-0F39-4CAC-95E1-CEC699DBE6A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C87C89-8742-4EB2-B8A9-9E8199ED44A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F43D4-E90D-47EE-9331-0D02D8D2B29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A0667-4A06-48F3-98CF-55E34FEB7D0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48AA7-115F-4E27-975A-A18D7601A18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38CE9-DE37-4D0F-B1EC-2ACB9A013E5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3E9027-7542-4EB8-BCB0-4A3E92AFA60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F7BEFC-79D7-42B2-AA9F-D18E1E3528D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CE590A-8AC7-4E3E-8FBB-41CB1801E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1D99E-C68D-4644-B938-7435D5834EE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80DEC9-EC89-4898-8D95-23C023140E7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460D86-41D7-4788-8ECF-985A8A86F98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A88C85-F0B9-453A-9262-08DE8EA827D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E551B-F162-408C-B673-62637999B15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4848D3-D55B-4780-B3BF-AC86C19429B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78B85-A125-4AB1-B901-A38EC49D2DF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92D92-48C6-4379-BA19-F1A3071B4D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39FDE-4A77-4A56-8463-7F36534C18B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1FDD0-F114-4BDE-97E7-EF668E2798A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CCCC25-65FD-4B3E-A619-6E86139EC8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7098-1055-456E-983E-BFBAD86011D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CBC479-8B73-4DB5-A7A2-494B79B7B43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7D79-C829-4730-B5FA-4EF1C8B214B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6881F-5E53-447A-95EB-8D1D94B48B5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1B2E-A6C3-4866-A915-246B4E8B3BF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533-CF43-45BB-ADFB-2A8A54AD536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62D9-A308-49E9-9A89-645370668A5E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E841C-C18A-4125-98B9-2A401187BEF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23D66-10A6-43F6-9AE9-C36ADD60E68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485DD-B31A-4240-B73E-84D2ED3E3A51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8989-5E4C-450D-8E8E-29E080F03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359EE-3F66-4811-9071-A9FDF9FA64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2F46-9FAD-428E-A318-D4660E8EB62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B6914-BE66-40DD-92F3-5BFFDFAD8C6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E100B-1ED2-42D2-8401-672ABA44D9D4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65E10A-3BC5-410E-A52C-AE57B67C336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710F9C-D24E-4BC6-8664-0E22FD1BD84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A263774-0898-4C74-BFEA-AE2E29DE0D7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23BFD-0F69-4F2C-8BAD-57CDB4E015A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D8026B-9976-44B2-A167-A3C7087384B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F45631-9FE6-43A5-8EC6-A688E8DF87A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3FCD31-EAEC-4E70-9289-3080D28C64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48BC1-738D-4277-9557-E3A8A96B7E54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D87FE8-9E0B-450C-BA64-8AC77D998C4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221183-7A1C-4C3A-806B-E03F4BCE01C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E0C6E7-FACE-48ED-9B1C-CEA259ADDE0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FF18B3-EC16-46F8-B9A2-CE9FD095F84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6BC371-2114-4CFC-B20F-1CA29DA7DD6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1E2BE1-6AE0-4D59-BA64-58C14F819908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4ECF9C-2383-49DC-8F77-0A33ED4D21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6BE9DC-F436-4215-8D17-6E2C4440A05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F9FD69-8EE9-482C-A89E-0E6B94F7749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DD6CE2-9097-425B-BA8D-91E5D91C8E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DB9F4-44D6-49E0-A154-3A0220F308CD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298A8-44E1-4250-8B2C-29A6B5FBFDE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3C4608-3277-4C39-A99F-7A93A775C4B3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249947-C23B-474E-8362-CFC2A02300A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43984-4E76-40A0-BB1A-FE389F04FDB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47C12C-71F2-4DE7-9CA6-22E02C6B8CF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6526B6-CF42-40B7-B405-738972BF30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F14582-9977-4ACD-A8A6-762D0AC378CE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38F6-4AD7-49C1-906F-2721B845A37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981F4-4A6D-4DC1-99B8-0CE737780E4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63571-2B7A-4B3A-9AB8-B0DEA8C68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9025C-58A6-46AD-A3C2-F03E3860E01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B629D-F756-43E3-A732-30646EE2931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9AE6-C1B2-4125-8ACD-F5B12CC4D26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1CB9E-2415-4C59-8D0D-B58A8A4B12C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3E4-F8FA-449B-A20A-042D6EC0071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1542-E78E-431C-B5B6-EB6EF2D0FDD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95B89-BE61-46A3-8FAF-BD14617433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22CC-AA12-4A5B-B244-BC7CA790763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8389-2646-4BD3-93C5-06A4830FDF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9D5EA-53B8-4331-8C52-87DA400F89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36560" y="1143000"/>
            <a:ext cx="386100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160" y="419112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adle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88840" y="4876920"/>
            <a:ext cx="3733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ootball.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   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September 23, 2002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adley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5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11Z</dcterms:created>
  <dc:creator/>
  <dc:description/>
  <cp:keywords/>
  <dc:language>en-US</dc:language>
  <cp:lastModifiedBy>Student</cp:lastModifiedBy>
  <cp:lastPrinted>2010-08-26T01:04:50Z</cp:lastPrinted>
  <dcterms:modified xsi:type="dcterms:W3CDTF">2010-09-09T20:58:28Z</dcterms:modified>
  <cp:revision>9</cp:revision>
  <dc:subject/>
  <dc:title>スライド 1</dc:title>
</cp:coreProperties>
</file>