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0F0C37-21DB-4B88-9F0F-648E98864A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FB0D00-D344-4B64-A114-020858E42E55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4B7397-15E6-49D0-8409-0486412F6423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BB77B7-7D80-4487-9DCE-2AEE13512781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622440" y="0"/>
            <a:ext cx="888984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984343-7FCD-41D1-BEA1-9229C5F4CC0B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E64F86-3808-4265-ADD2-F5830672D047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43566D-0B8F-4D62-A5C8-92A30B41FF1A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4A3726-3E56-4F81-B71B-912B9CBBDD4B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E36F34-E122-4F95-891F-26578D036B3A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BCBA8F-9D28-40A7-AC29-19263D1425D9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628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63408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622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628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663408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90C900-60B4-4312-9D92-79B7FA0B75E5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60ADDB7-8BAD-4CAF-98A7-EF91C5DEF2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FEBC11-AC18-448F-82E3-C876F96FC775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4B91589-9BBD-4F1D-8A64-C8646E1A07CF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DEE3235-A99C-4A7A-A1C2-681575738E2E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E9D268B-3CFC-43CB-8271-CF4380674317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55D9085-FB95-4B54-B2F4-262CF729D7A3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622440" y="0"/>
            <a:ext cx="888984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2481592-B59C-45B4-992A-52F942E3B516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450333B-C0F4-43CD-95A3-6838551FB32A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C848325-A376-4650-A33A-E1D8E1F97217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B1B3A0F-2F8A-48A0-B412-C696D8396CF7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D70118C-48B6-45ED-9D28-4C7C028DC0BE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D1BE062-544A-414B-808C-3413052DF1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628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63408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22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628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63408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C49592-9A38-4733-9AC2-7DCB53A8105D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628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663408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622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628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663408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AE3D3BC-18D3-454D-825D-ECD818781AF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018AAA-F92F-4C03-AC8A-2EF697F2438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D0843F-5320-4CB8-B959-9126C726367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E66917-9AD4-4E30-AF42-F8B86AE963B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9906AE-D7AD-4D31-9280-B2742296F09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5AEBA2-4419-4ADB-BA3D-0722D4A64AD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22440" y="0"/>
            <a:ext cx="888984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35450A-FB70-47C6-9E7E-3A690DE455C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0C4906-09D3-412F-96CC-1BCF14EA222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59C55D-E163-497D-AEAB-C1A2AC894A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CCB7ED-4CF9-4140-94DE-FC8190C95E5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2F0A6B-79E2-4439-B2A4-7F68C30A999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8D1437-E8A3-49F3-85B6-3C222C6482A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0A5482-674D-45E8-8919-37603F990DA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628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63408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22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628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63408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E7F42D-0136-40E5-A89D-257212B644FC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74A45-D411-43AF-B553-C120211920D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8EC7C-616A-4D6C-83E0-DA275739688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19198-EB3F-4CC9-BFF5-A1FF0DB5506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3E77B-9F32-4F83-85D7-8E0B167FE92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14415-E63F-431E-B2B0-A5688C183E4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6C6CEF-437C-4ED7-86EA-794F6126F8C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622440" y="0"/>
            <a:ext cx="888984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FCA8E-D2E8-4570-8C1F-3733CA12D64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CE6FB-5727-4468-81EC-0AD85B009EA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BD6EA-DDEC-4161-9E0C-BECF62C0CF3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BE188-B301-4983-9B24-0C8BF0E17B7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6AB35-DC94-4ED5-935B-D665B8C2592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647DC-0E05-4883-9700-7B21A3080FD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628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63408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622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628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63408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A9D52-076C-4DFD-89FA-646C45FF41D4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3AFD96-EE3F-4F77-907A-148D6FBD942A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E43F5C-8805-46BB-A68D-C99C775B6980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7BDCF5-DC3A-4A1A-A90A-AE2E884C24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055358-E07E-4282-80E0-C26953C9C815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5B2F55-BA66-4DBB-9CD1-874AD00CC053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6C4A4A-A7DE-4550-A899-D7737158C9D0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622440" y="0"/>
            <a:ext cx="888984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A5F8E6-C772-4914-829A-6500051C7FD8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47D9DD-45EE-4E74-BD78-A3E344D3C7B4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CCCF36-8305-4111-B68D-B8DFD8D44BDD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F1B4E0-5146-40C8-9961-A7227A6E8327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C33846-3C48-44A4-9C1C-2B94C266075E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CF2773-FD22-446E-91D8-7D0DD7F04BE1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628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63408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622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628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63408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094939-0BBE-4900-B533-7FB50911688B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87A98D-17C3-4D13-845F-8BE9EC0292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749D7A-355C-4760-9919-6E64847B4B63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B5DED7-AF55-431D-B764-93870485DE93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519AEF-4CFA-4EB3-8956-8F2C5A8B3518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5394DB-DAE0-4F7B-8851-2AD142FFBB83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BACA1D-EBC1-4811-A1DD-635C3E57DAF7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622440" y="0"/>
            <a:ext cx="888984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BF4028-C656-4765-80CD-2452EF26902C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8E3DC6-DBD2-4373-9634-E29263BA1148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16918F-0CE2-4F31-902F-51AA75B55B29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C0867D-851C-459F-B867-E0FDE716232D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835A4D-0561-437C-81E8-B1C6175D26AE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8C8493-D09C-4F02-8093-E65AACFD2C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22440" y="0"/>
            <a:ext cx="888984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2129C0-1520-4A93-B00C-6C5AE550B1F8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628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63408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622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628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63408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026666-0903-477D-B78F-272CEABFC3F7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3086B-9AA0-41C6-A586-8CBF49821327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36A7B-AA84-4EDD-9CA2-B5837740815E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C2904-612E-4101-977E-8841D4BA8368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CD72D-91D8-409D-8DDA-AADF3453BDB7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BEF47-787D-4030-A76C-F49CCDD27A0B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622440" y="0"/>
            <a:ext cx="888984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31F84-9691-4441-85A0-0A99C4AB1C32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1A8D1-162D-44CB-B949-D9FF37F14FD3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94C45-3E7A-4180-8BA1-52FEC66AD002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27871-BA46-46F2-BF62-50211341CE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10AA4F-1462-4946-8193-F5D8EB36E429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3EDA1-2E81-4FED-AC39-39F3CD806E84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15F98-94C0-493C-B2F8-C543D50CB4C7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628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63408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622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628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63408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305A0-0C7C-4F92-B933-D72D9429611A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5E3C0CA-FDEF-41FF-B4EF-05573AE39EA0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76EA159-6CC8-4D3C-998C-9B4478CA95DD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845C795-8340-4CC3-AD2F-4414E7BD5C66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C76A0E6-E59C-486C-B075-D309EFDAE68A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9979AA8-266E-427D-B804-251E8E6AC696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622440" y="0"/>
            <a:ext cx="888984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9FB68DE-EE97-4F5D-AC46-B61057104043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CB68EF5-3B70-4C70-84FE-1E53AA9BA1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2F071-CA5A-4317-A5AC-92C23C9C207D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99D3B26-64B6-4840-9C1E-509E4C11233A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2E93872-2677-49AA-9411-3B8795F69E4A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EA4EAA1-BA55-442F-ADDD-E6029502A1EA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E1500B1-A3EF-4586-AA1E-76920EE88132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628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63408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622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3628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663408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9A0ACAB-B259-4245-8D76-9CE1AF282B4B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7B341D4-81E0-4A01-9A72-307BAACF2C2C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2A43891-14A7-4D3E-91D7-AD46AD1265ED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03B477A-D981-4FA5-8D4B-E10ACF538B67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696488C-7D85-41D0-BF1C-E6B881B54C1F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72800A0-ABFE-4EFB-BBB0-C518F064BC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71D11C-45C2-4CE7-BE25-A4F1A2D09AB7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ubTitle"/>
          </p:nvPr>
        </p:nvSpPr>
        <p:spPr>
          <a:xfrm>
            <a:off x="622440" y="0"/>
            <a:ext cx="888984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ACCA4D4-6A8F-46DE-A52D-636EF3172393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7A80D0A-1FEF-4030-8BC5-11E1D13E61CA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D5CEA77-D290-498B-BE07-541004D7ADEA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ED29099-A0EB-4CF7-8E47-2C80A08AF4C5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317939D-7954-4E4F-B6E0-EBF5C9692911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24BC99C-4772-433A-A20A-155E92E7DEC9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3628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63408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622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08" name="PlaceHolder 6"/>
          <p:cNvSpPr>
            <a:spLocks noGrp="1"/>
          </p:cNvSpPr>
          <p:nvPr>
            <p:ph/>
          </p:nvPr>
        </p:nvSpPr>
        <p:spPr>
          <a:xfrm>
            <a:off x="3628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09" name="PlaceHolder 7"/>
          <p:cNvSpPr>
            <a:spLocks noGrp="1"/>
          </p:cNvSpPr>
          <p:nvPr>
            <p:ph/>
          </p:nvPr>
        </p:nvSpPr>
        <p:spPr>
          <a:xfrm>
            <a:off x="663408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423C097-4AF4-4F2D-8E80-4BE82503A967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7204E2-ED2E-4356-9B07-3810040E388F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E84469-431E-4503-880E-F0A52C412E39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F361C7-1807-43AF-A885-254B0A2BCC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ヒラギノ角ゴ Pro W6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569880" indent="-3031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1" marL="1027080" indent="-3031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2" marL="1471680" indent="-3031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3" marL="1916280" indent="-30348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4" marL="2373480" indent="-30348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5" marL="2373480" indent="-30348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6" marL="2373480" indent="-30348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9609120" y="7143480"/>
            <a:ext cx="28728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EF6FE-3B29-449C-A4B6-6CCD6A2B6A1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ヒラギノ丸ゴ Pro W4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622440" y="622080"/>
            <a:ext cx="888984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569880" indent="-3031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1" marL="1027080" indent="-3031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2" marL="1471680" indent="-3031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3" marL="1916280" indent="-30348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4" marL="2373480" indent="-30348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5" marL="2373480" indent="-30348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6" marL="2373480" indent="-30348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Num" idx="10"/>
          </p:nvPr>
        </p:nvSpPr>
        <p:spPr>
          <a:xfrm>
            <a:off x="9609120" y="7143480"/>
            <a:ext cx="28728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19BD8-8606-42E4-A432-AEE58E44D0F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ヒラギノ丸ゴ Pro W4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ldNum" idx="2"/>
          </p:nvPr>
        </p:nvSpPr>
        <p:spPr>
          <a:xfrm>
            <a:off x="9609120" y="7143480"/>
            <a:ext cx="28728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0B915-7A78-484A-BE7D-43F69CFE6E5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ヒラギノ丸ゴ Pro W4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ヒラギノ角ゴ Pro W6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ldNum" idx="3"/>
          </p:nvPr>
        </p:nvSpPr>
        <p:spPr>
          <a:xfrm>
            <a:off x="9609120" y="7143480"/>
            <a:ext cx="28728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FC89F-C762-4849-9744-3CDBE64BF86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ヒラギノ丸ゴ Pro W4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22440" y="2527200"/>
            <a:ext cx="8889840" cy="254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ヒラギノ角ゴ Pro W6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ldNum" idx="4"/>
          </p:nvPr>
        </p:nvSpPr>
        <p:spPr>
          <a:xfrm>
            <a:off x="9609120" y="7143480"/>
            <a:ext cx="28728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5772B-E29E-4D49-BFC1-906E02A417E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ヒラギノ丸ゴ Pro W4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5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22440" y="570240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ヒラギノ角ゴ Pro W6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ldNum" idx="5"/>
          </p:nvPr>
        </p:nvSpPr>
        <p:spPr>
          <a:xfrm>
            <a:off x="9609120" y="7143480"/>
            <a:ext cx="28728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9012C-39A6-491E-8FEF-4A92F0498C6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ヒラギノ丸ゴ Pro W4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5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22080" y="622080"/>
            <a:ext cx="4444920" cy="253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ヒラギノ角ゴ Pro W6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22080" y="3797280"/>
            <a:ext cx="4444920" cy="317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7000"/>
          </a:bodyPr>
          <a:p>
            <a:pPr marL="263880" indent="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1" marL="263880" indent="-263880" algn="ctr">
              <a:spcBef>
                <a:spcPts val="201"/>
              </a:spcBef>
              <a:buClr>
                <a:srgbClr val="000000"/>
              </a:buClr>
              <a:buFont typeface="ヒラギノ丸ゴ Pro W4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2" marL="263880" indent="-263880" algn="ctr">
              <a:spcBef>
                <a:spcPts val="201"/>
              </a:spcBef>
              <a:buClr>
                <a:srgbClr val="000000"/>
              </a:buClr>
              <a:buFont typeface="ヒラギノ丸ゴ Pro W4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3" marL="263880" indent="-263880" algn="ctr">
              <a:spcBef>
                <a:spcPts val="201"/>
              </a:spcBef>
              <a:buClr>
                <a:srgbClr val="000000"/>
              </a:buClr>
              <a:buFont typeface="ヒラギノ丸ゴ Pro W4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4" marL="263880" indent="-263880" algn="ctr">
              <a:spcBef>
                <a:spcPts val="201"/>
              </a:spcBef>
              <a:buClr>
                <a:srgbClr val="000000"/>
              </a:buClr>
              <a:buFont typeface="ヒラギノ丸ゴ Pro W4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5" marL="263880" indent="-263880" algn="ctr">
              <a:spcBef>
                <a:spcPts val="201"/>
              </a:spcBef>
              <a:buClr>
                <a:srgbClr val="000000"/>
              </a:buClr>
              <a:buFont typeface="ヒラギノ丸ゴ Pro W4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6" marL="263880" indent="-263880" algn="ctr">
              <a:spcBef>
                <a:spcPts val="201"/>
              </a:spcBef>
              <a:buClr>
                <a:srgbClr val="000000"/>
              </a:buClr>
              <a:buFont typeface="ヒラギノ丸ゴ Pro W4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sldNum" idx="6"/>
          </p:nvPr>
        </p:nvSpPr>
        <p:spPr>
          <a:xfrm>
            <a:off x="9609120" y="7143480"/>
            <a:ext cx="28728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20350-0554-4DB4-BA90-2BA28A5962C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ヒラギノ丸ゴ Pro W4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ヒラギノ角ゴ Pro W6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22080" y="1257120"/>
            <a:ext cx="44449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4000"/>
          </a:bodyPr>
          <a:p>
            <a:pPr marL="535680" indent="-28476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1" marL="965160" indent="-28476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2" marL="1383120" indent="-28476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3" marL="1801080" indent="-2851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4" marL="2230920" indent="-2851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5" marL="2230920" indent="-2851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6" marL="2230920" indent="-2851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sldNum" idx="7"/>
          </p:nvPr>
        </p:nvSpPr>
        <p:spPr>
          <a:xfrm>
            <a:off x="9609120" y="7143480"/>
            <a:ext cx="28728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0E57D-F3F4-4B6B-B53D-58C85BCD68C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ヒラギノ丸ゴ Pro W4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ヒラギノ角ゴ Pro W6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22080" y="1257120"/>
            <a:ext cx="38098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1000"/>
          </a:bodyPr>
          <a:p>
            <a:pPr marL="461520" indent="-2455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1" marL="831600" indent="-2455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2" marL="1191960" indent="-2455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3" marL="1551960" indent="-2455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4" marL="1922400" indent="-2455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5" marL="1922400" indent="-2455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6" marL="1922400" indent="-2455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sldNum" idx="8"/>
          </p:nvPr>
        </p:nvSpPr>
        <p:spPr>
          <a:xfrm>
            <a:off x="9609120" y="7143480"/>
            <a:ext cx="28728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56488-2975-477F-B989-35F12DBBDCC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ヒラギノ丸ゴ Pro W4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ヒラギノ角ゴ Pro W6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5702040" y="1257120"/>
            <a:ext cx="38098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1000"/>
          </a:bodyPr>
          <a:p>
            <a:pPr marL="461520" indent="-2455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1" marL="831600" indent="-2455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2" marL="1191960" indent="-2455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3" marL="1551960" indent="-2455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4" marL="1922400" indent="-2455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5" marL="1922400" indent="-2455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6" marL="1922400" indent="-2455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sldNum" idx="9"/>
          </p:nvPr>
        </p:nvSpPr>
        <p:spPr>
          <a:xfrm>
            <a:off x="9609120" y="7143480"/>
            <a:ext cx="28728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7F40C-46EB-487A-9FE8-E1C6616846A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ヒラギノ丸ゴ Pro W4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ヒラギノ角ゴ Pro W6"/>
                <a:ea typeface="ＭＳ Ｐゴシック"/>
              </a:rPr>
              <a:t>Self-Introduction Card</a:t>
            </a: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88" name="Rectangle 2"/>
          <p:cNvSpPr/>
          <p:nvPr/>
        </p:nvSpPr>
        <p:spPr>
          <a:xfrm>
            <a:off x="888840" y="1143000"/>
            <a:ext cx="3708720" cy="6019920"/>
          </a:xfrm>
          <a:prstGeom prst="rect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s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89" name="Rectangle 4"/>
          <p:cNvSpPr/>
          <p:nvPr/>
        </p:nvSpPr>
        <p:spPr>
          <a:xfrm>
            <a:off x="2114280" y="4191120"/>
            <a:ext cx="11466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ヒラギノ丸ゴ Pro W4"/>
                <a:ea typeface="ＭＳ Ｐゴシック"/>
              </a:rPr>
              <a:t>Annika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90" name="Rectangle 5"/>
          <p:cNvSpPr/>
          <p:nvPr/>
        </p:nvSpPr>
        <p:spPr>
          <a:xfrm>
            <a:off x="1117440" y="4876920"/>
            <a:ext cx="335304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  <a:ea typeface="ＭＳ Ｐゴシック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  <a:ea typeface="ＭＳ Ｐゴシック"/>
              </a:rPr>
              <a:t>I like the books.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  <a:ea typeface="ＭＳ Ｐゴシック"/>
              </a:rPr>
              <a:t>My birthday is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  <a:ea typeface="ＭＳ Ｐゴシック"/>
              </a:rPr>
              <a:t>August 2, 2003.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91" name="Rectangle 6"/>
          <p:cNvSpPr/>
          <p:nvPr/>
        </p:nvSpPr>
        <p:spPr>
          <a:xfrm>
            <a:off x="4927680" y="1143000"/>
            <a:ext cx="3708360" cy="6019920"/>
          </a:xfrm>
          <a:prstGeom prst="rect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92" name="Rectangle 4"/>
          <p:cNvSpPr/>
          <p:nvPr/>
        </p:nvSpPr>
        <p:spPr>
          <a:xfrm>
            <a:off x="2276640" y="7189920"/>
            <a:ext cx="9745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ヒラギノ丸ゴ Pro W4"/>
                <a:ea typeface="ＭＳ Ｐゴシック"/>
              </a:rPr>
              <a:t>(Front)</a:t>
            </a:r>
            <a:endParaRPr b="0" lang="en-US" sz="20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375240" y="7162920"/>
            <a:ext cx="97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ヒラギノ丸ゴ Pro W4"/>
                <a:ea typeface="ＭＳ Ｐゴシック"/>
              </a:rPr>
              <a:t>(Back)</a:t>
            </a:r>
            <a:endParaRPr b="0" lang="en-US" sz="20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pic>
        <p:nvPicPr>
          <p:cNvPr id="394" name="Picture 10" descr="Annika.JPG"/>
          <p:cNvPicPr/>
          <p:nvPr/>
        </p:nvPicPr>
        <p:blipFill>
          <a:blip r:embed="rId1"/>
          <a:stretch/>
        </p:blipFill>
        <p:spPr>
          <a:xfrm>
            <a:off x="1727280" y="1219320"/>
            <a:ext cx="2111400" cy="281628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10" descr="100_7511.JPG"/>
          <p:cNvPicPr/>
          <p:nvPr/>
        </p:nvPicPr>
        <p:blipFill>
          <a:blip r:embed="rId2"/>
          <a:stretch/>
        </p:blipFill>
        <p:spPr>
          <a:xfrm>
            <a:off x="4927680" y="1676520"/>
            <a:ext cx="3689280" cy="49194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9T20:39:47Z</dcterms:created>
  <dc:creator/>
  <dc:description/>
  <cp:keywords/>
  <dc:language>en-US</dc:language>
  <cp:lastModifiedBy>Student</cp:lastModifiedBy>
  <cp:lastPrinted>2010-08-26T01:04:50Z</cp:lastPrinted>
  <dcterms:modified xsi:type="dcterms:W3CDTF">2010-09-09T20:58:10Z</dcterms:modified>
  <cp:revision>9</cp:revision>
  <dc:subject/>
  <dc:title>スライド 1</dc:title>
</cp:coreProperties>
</file>