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9D735-07E9-4DA8-87D7-85E0DD5A45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2EE61-EA59-4A92-9291-3AC0A1BE322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DBB73-B504-4B02-BC50-D8C4410410A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8DC40-915A-4D57-819A-C08376EC210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6B86D-4C86-47C0-B440-3041EFAF913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1B92E-22DD-41F2-A373-0E57931D982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8B47D-5237-464B-BB60-EDE744B08E4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08D06-F567-4916-B20C-34EA0675A9A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63AF2-BFF2-4777-B330-BFE85208538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4B52E-7C75-40D3-B525-C931B6B3AC8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3D4F1-A80C-43C7-ABB6-58CDF56A993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4BA4C8-C6DD-4288-82F3-64B01D7302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38B5A-BC43-474D-9112-EAAA52949DD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C0BC42-DF79-4655-B3B8-A6E74E38EE0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89F406-64B1-45E9-947A-5077DCD64D1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B5175C-95B5-4549-912C-CF867603F12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8D80EA-5B25-4E80-8F09-A45113B68CC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2F59EB-E63E-47C2-82FC-78883D71281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0C859E-BB58-4629-BD5B-502F28910C6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CBB4CE-3A92-427D-B399-8382519756D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7AE04D-5970-4DE2-912B-E16F49DB6AD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619A54-AC0D-44BB-9AEF-79F17802BE6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AA3346-2052-410C-8118-BFE0AF6B60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AD9B9-6A8A-4717-AAD1-0FEBA3F0AAC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4E0DAB-E0CC-4C6A-BEB5-671F900D1C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4C733-9A90-4F5C-907D-30B8566DFA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39A90-A7EB-460E-BF91-2A26382155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44B43-FB5A-4D5C-BEBF-72158A5AF9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51B04-36DB-4A4B-A980-7F51A64A08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BAA69-DC71-4CFD-9015-52B46205F3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AE953-B8ED-4A5E-A0E7-2952FC55DC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4A886-B960-47D5-9A0C-1DFF7C5DD7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99313-2AD8-455E-9BD5-FFB956B28D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0678B-B23B-443D-941E-E45ACEABC6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76DBF-45F0-4890-82D0-0B29375400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8AA63-9D2D-4731-BD83-A25204075C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62052-7CD1-4732-848C-6377D56698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2B9E7-FB1E-4F6F-9D29-584942C1939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2E96-2A14-4DAD-AD45-EB551102C70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8DC6-5689-4477-9F5E-80B2C6FE389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D2E8-D7D9-4302-A246-65DE67A447E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63A2-340B-488C-A61B-9B558613EDC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0AC4-04AD-490C-BB1F-838E050256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FFF0D-3C25-4120-9315-F20028220D0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E582-DD20-40D0-84C6-7E23EED0D39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5A12-51C5-4232-A462-ADC8FAB2E40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BB00-855C-44E6-BB64-DDB7ABB2A2A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CC1B-152F-4847-A0A0-2009ACDD31B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AE04-1A1F-470B-9B58-BB56A0B9C6D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D87E-994F-4EE5-8BCA-DD00CE62E34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16D5-3119-4B06-B615-4FB9D300E0E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4916A0-EEB6-4EDC-AB32-174573D05CC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C110C4-CB20-42F3-AC79-AD00A0E55C2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CA5EC-9B40-4600-AFB6-C4CDE4956A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3EA2B-C49A-4008-9719-E2754AE7B86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EA8FEA-0852-495A-8A5A-0864027C95A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5C00EF-C205-441C-B6B4-37E6107366F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F8D870-7C57-4911-A060-645FB7CF4C9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F51080-CE4B-40DC-AF92-00791A57F83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B9402-137B-4C8E-A34C-A9AD6735DF8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1F77A8-ED5C-46E3-89A9-6E514773C49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2ACDB-E8B1-4383-9259-5E1B5E82DE9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FA63BA-8841-46A0-B5DA-4D3D464CDAD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6A2B27-6429-4CD4-83B2-904C688F4C3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DB7C6-E8BC-455B-9E93-35B8E88503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5C50E-9FBF-4246-B53A-3B5277FFE7E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89652-8338-44F2-A17B-C7F54086AFB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79100-0C13-4E46-B8A2-E77E71A9A84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23C7D-98EC-4618-866A-716762C1207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1B902-041E-403A-8268-4D71E2D1529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2C9562-1746-4185-9A97-C37E0F6C69B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BDB17B-609D-4D50-83E6-C42D213DC86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8AC22-0917-486F-A9A4-E8D632FF5E7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4DFFD-7FB2-4410-B1D6-B817A359021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D1008-E260-4AAA-8D76-5065E0DFC28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F2233D-994B-44B7-80C5-F10825A080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0DB64-B8E2-4174-BBA5-7E987839559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CCBA5-C256-48E9-A873-6C41C062D50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5C55-A040-46AB-99E3-D3BA890140C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E445-FB71-46B3-B35C-79DC500EEBB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18376-89B8-4736-9683-6650B72BC7E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AFB0-F9AC-4234-828D-5AA150D460D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1D19-8577-4712-8F2D-4A6131768C2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0162-0B69-43FB-9992-0EA271CBDF5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8C331-EFC1-4D77-AB9F-5C41F94586E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19D0-8732-485A-8A4E-4475E4C7A00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6A79-3AED-414E-A0DF-D791A1DA74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0F58D-8465-4400-983B-C9596666288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ED90-C49A-42AE-99AB-AEB30532110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8EA7-1AE5-4BCF-B042-239E33234F5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F3B2-590C-4809-9C45-A870584A092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5EF76B-FA69-4B26-AB74-0B472A99E0E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4FC70B-CC1A-4B0F-AC58-B12838E3487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DA72A0-71E9-46CD-84E8-27206A45A3F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0B618B-7E62-4D33-8F33-ADBCCFBC4CE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BD0A23-097A-466A-A7BB-29A5AA2D491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ACF7B3-886E-4C05-B2C8-587C6F29269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CF7A77-6A55-453E-A99C-AE8E5E8E2A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8B9B2-7129-4D07-930D-0F8DE0B29D7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DF8345-1E89-44A2-9C6E-184E7C06BD9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81EF1A-7527-4D41-A5B3-736B65C6C8A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52627E-410B-428C-8D5B-F4BFAB6A458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B800BA-6BB7-4D84-8A2C-C12167F8833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C611DD-72BE-4BEB-A6B3-3515417F52F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AE6612-6901-44C0-AFBF-214E423CE84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E92A38-EE31-4AD5-9879-BFAC6C59F55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2DD9A2-13B9-4A8C-929C-E6A30958DB2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DB5A6A-07D6-417E-91CF-68FE54F9BBA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BF3431-1114-445D-AB55-6568E8560B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DA778-5BAD-4E90-B206-B4FACEAE169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5C4A2C-9432-4039-A97D-71FBCAFF2DA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0C845C-B72C-47F9-A5BD-17B771E235E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E34116-4A04-4A3E-8380-55A84FC3875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6FC98E-E572-4AF1-BDCB-0B4D4AF2897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CF989C-D34C-4632-A374-E8BB5E0E188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A6AD9D-A41F-4013-9AE1-7B1A5EDAB62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26E790-5AA7-4CD0-A7A9-68B9FAF5EF2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4D114-08F0-45EF-AC6F-224CAF40ACF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72EDE-70B8-4427-8203-BB76A853CE2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AB289-F8B5-4B37-9784-E0FB935B9D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698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10270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4716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9162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828E-4F6D-4E23-8BF2-39B63697CD3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622440" y="622080"/>
            <a:ext cx="8889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698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10270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4716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9162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Num" idx="10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2D12-D2B7-43A8-ADB3-B557CD9BFB1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2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5D89-8171-4C21-A8BF-0736F20A97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ldNum" idx="3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48B1-6E35-4F67-92C0-A74A8891F2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2440" y="2527200"/>
            <a:ext cx="88898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ldNum" idx="4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C7A6-A343-4969-8183-F0DEEF44494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2440" y="570240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Num" idx="5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3A44-F643-47FA-9EC4-48747A9F90E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2080" y="622080"/>
            <a:ext cx="444492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22080" y="3797280"/>
            <a:ext cx="444492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7000"/>
          </a:bodyPr>
          <a:p>
            <a:pPr marL="263880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6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93FD-6B50-447C-ABD9-43E54347487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22080" y="1257120"/>
            <a:ext cx="44449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53568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96516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38312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80108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7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4420-EC8F-4015-93D5-B887780029C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22080" y="12571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152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8316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19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55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8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516E-A555-482D-94A2-19C2BDA4BAD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5702040" y="12571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152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8316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19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55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sldNum" idx="9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2040-272E-4C26-B572-EA811AA8419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  <a:ea typeface="ＭＳ Ｐゴシック"/>
              </a:rPr>
              <a:t>Self-Introduction Card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888840" y="1143000"/>
            <a:ext cx="3708720" cy="6019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s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2114280" y="4191120"/>
            <a:ext cx="1146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ヒラギノ丸ゴ Pro W4"/>
                <a:ea typeface="ＭＳ Ｐゴシック"/>
              </a:rPr>
              <a:t>Annika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1117440" y="4876920"/>
            <a:ext cx="335304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I like the books.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My birthday is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August 2, 2003.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4927680" y="1143000"/>
            <a:ext cx="3708360" cy="6019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2276640" y="7189920"/>
            <a:ext cx="974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(Front)</a:t>
            </a:r>
            <a:endParaRPr b="0" lang="en-US" sz="20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375240" y="7162920"/>
            <a:ext cx="97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(Back)</a:t>
            </a:r>
            <a:endParaRPr b="0" lang="en-US" sz="20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pic>
        <p:nvPicPr>
          <p:cNvPr id="394" name="Picture 10" descr="Annika.JPG"/>
          <p:cNvPicPr/>
          <p:nvPr/>
        </p:nvPicPr>
        <p:blipFill>
          <a:blip r:embed="rId1"/>
          <a:stretch/>
        </p:blipFill>
        <p:spPr>
          <a:xfrm>
            <a:off x="1727280" y="1219320"/>
            <a:ext cx="2111400" cy="28162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0" descr="100_7511.JPG"/>
          <p:cNvPicPr/>
          <p:nvPr/>
        </p:nvPicPr>
        <p:blipFill>
          <a:blip r:embed="rId2"/>
          <a:stretch/>
        </p:blipFill>
        <p:spPr>
          <a:xfrm>
            <a:off x="4927680" y="1676520"/>
            <a:ext cx="3689280" cy="4919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20:39:47Z</dcterms:created>
  <dc:creator/>
  <dc:description/>
  <cp:keywords/>
  <dc:language>en-US</dc:language>
  <cp:lastModifiedBy>Student</cp:lastModifiedBy>
  <cp:lastPrinted>2010-08-26T01:04:50Z</cp:lastPrinted>
  <dcterms:modified xsi:type="dcterms:W3CDTF">2010-09-09T20:58:10Z</dcterms:modified>
  <cp:revision>9</cp:revision>
  <dc:subject/>
  <dc:title>スライド 1</dc:title>
</cp:coreProperties>
</file>