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7E24C-9BF9-49A2-BB36-05433877A0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5105B-8505-4B16-8C4A-453A6A4A5E1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41016-4685-4A42-BF30-7FD2005C8A1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30F6F-67C6-413C-B651-E12BE0BDE22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862E4-977E-43F3-9F23-06FEC6617805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FEB91-19B5-4466-9141-F4539BF78FD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46C17-D3CE-402D-8946-ED6217936B1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B1562-0D34-41A5-8307-78D29EDBE6D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922512-24C7-4F2C-99C5-2982350AAD5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7A5018-3250-4284-8D8C-D305C1B1BC7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77F4FA-CF37-4FA4-B2B9-42C053FAD0B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6A9191-F8DB-4C8E-90EB-1BA21CDC52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08CDC-AD8C-4C0F-91C3-4D4F8762A9A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63A5CA-3266-4615-9106-B44B351690A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8E24A86-1149-4898-8957-7FC9DD86350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53791D-AE75-41E0-94F5-12AEAF90C05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80B720-F9DB-4962-A29E-59F2E14485F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CEE78F-43D9-4958-9A18-9887B929422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E24B0B-55A9-4799-941F-BA0F5A3C8C0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174380-484D-4194-927E-05CA87B599F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B971F9-EC8B-47E7-A217-ABA5AAF53A8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E9801D-99D4-4814-A656-2C5D6D3F7778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3B056F-1323-44AE-9009-2605DDFCD2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7339A-8957-4AEA-AA6D-245EF6D8937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5ABAE0-F2B5-44BB-9AC1-4B35DFF8C7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6D7B4-D1C6-46E6-8A32-785728EDBB1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7358D-7EBC-4293-8943-E144E80621E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863A5-CCAF-4F09-AC6D-8F73F04689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F6253-E008-493D-8D7A-A8E65DB52D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2A424-E43D-418E-8F42-A14648F777E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AB570-6227-4F13-AEA5-5292BB16A7A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2CE933-CC7C-4548-9758-77FBD96BB89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E5644-0A11-4823-96FC-2800F25758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150F7-7CF0-4122-88E8-A86EEC802C3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5749B-95BA-4A72-9CE2-E6CFA501AD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AF06C-7B18-46A9-824F-00E548D1FE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9756C-B1CA-4D79-BE9E-0396FFF2DF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5D7AD-8258-4FC7-BBEB-366B506730C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B5AA-1F31-4143-9365-51CD2AFF16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7D84-1210-4430-8928-DE66A8274EA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CCA3-EBEE-475A-97FF-3C2BAF3B9D1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D3E4-7D20-459F-B784-0A517648D9F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DDF5-E49B-4409-81B1-65333D37CA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9DD41-5209-4A41-8E95-226492A253A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0B4B-8989-4B8F-B35E-2AB14D1E38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7F2-2069-42B7-91CD-BEAAFB273B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124D-8B0A-432C-A160-5D7B183F5A8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605D-20D1-4CCF-84F7-92C6F77ED75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2EF5-27A7-4BF3-8A23-C848BA99D1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55CE-CA94-4999-AD62-BCDDA6EBE04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2987-8104-4AD2-A689-43DC83CD5EF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F98995-5894-42BF-B35E-EF99F275030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20351E-5187-4CBD-9C03-CE21F1B2155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64CF0C-10C8-4B4C-9E0C-B00ACEFFE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B4F31-E13B-4832-BA93-B8185391306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EC36F-2D35-47AD-B455-9B792558E6F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86DD7-41BF-4FEA-AC97-5D5BEEF8FFA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97AA53-3DF0-47F6-B3B8-8002927BDAF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E47A67-2385-41D4-91DA-7B38350A20B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2AC3B6-6F21-4866-A53D-901B8311BCE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713681-BDD8-4A53-B137-875D38B2ADE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8C8C6-3BFC-47AE-B03C-FDF637FDA80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D577C-335F-43BA-9242-1C2533B6152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CB96F-8A2C-420E-BC6B-7756353214A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259BE-5311-4E72-9A94-263E33029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AE51E-5847-428B-A32B-D6C54B988B0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83B984-36A6-4554-A363-C764D75EFD6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5A24BC-34DB-4FD7-A672-5E4DA7A149D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09E1A4-D89F-47FC-BA8D-025E7D49E6B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071A8-9AB7-4F16-B32A-FE57628DC75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8B919A-F1E2-4C7B-894E-19E315EB82E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4F2F0-F355-4190-ADD6-8762CB50EF0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30560-5300-4C76-97F2-A06EC994010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47EA3-0C89-496F-A78B-0FF751108A4F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F222AE-AE05-45DB-8B61-583D45C9006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11BB7-8C7F-4DC2-915A-E00C490EE4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84821-69C1-49A2-A045-CC68F073746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39227-B0EC-4F1F-9F8A-8FCE4BE0F3B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4CB9-B30A-4D5C-8DCA-459BD163348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AE489-1259-4929-B73F-47FE58FD9CA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0163E-DBE6-4048-9617-7F016D4E952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F53D2-9DC1-4744-8B6C-1F5673D3BC6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8BA2-25FF-4CE0-B0BC-CA682DA984A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CBE5-89FC-49DC-B9E2-E150DAF13C9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B4D01-05FA-497E-9F1A-C8C4AC62317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F0846-DB68-4076-A651-123C5BC42D4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20699-0B78-4F45-8D7F-4BEBBB602F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C9FB2-25F5-47DD-8674-949FEEA5F52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FB25-7205-425F-ADD6-F7C96512E10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8355-173B-405D-88A6-44D0F709AF3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8E2F-421F-4B9E-86CF-3ACE4148112C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73623B-D22A-44E3-9522-C3B58AC8834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395B51-4530-4AA8-BE15-59986AEE4DD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F94C3B-F072-4437-A526-4EF257E0A20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0B1AA4-C246-4B77-AD6C-B33331D3296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6AB9C2-4674-4BE7-831E-5996285B7534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23FE98-2FBC-4887-8BFF-A236AA37C30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6533BE-CA8C-4AC9-85B1-69F57A2CA9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86033-852A-430C-912D-166B6B023A60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1E43C30-048D-4D1D-BFCF-29F2888DE66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8BBB14-D6F3-4F73-ADA4-036124C69D0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367745-6710-4B8B-80EB-3DB70484650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3EAAAA-3238-4F3E-8686-10A2A69EF27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35C216-AE6F-4489-8439-4455E0632E1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954C89-26E7-4651-8E8A-B46170BC0D81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43F912-A735-4DB6-926D-F40D1D09B8E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71D93C-200E-4570-A87B-97FAA210A51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666B3C-588F-4C8A-9313-F572F690200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6C51C3-F84A-4EBF-86F2-C430B2438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4491D-14F2-4FA9-82F1-04A64BCC07D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150CA2-06E9-4D32-AA46-ED6C9B21B83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EE95A6-078E-464E-AF39-7F6A8F2DD01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05FB75-ECF4-42AA-AEAB-88333BEB81F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E8D56A-DE53-4C78-8DD8-EF149F06DEC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0F4AFA-2D20-4571-A830-30CA5E92722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FF06DE-9B89-403C-9806-FB9A47B97D4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BBE05F-700C-4292-9783-970B2262028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577EF1-9A79-4D7D-9251-DD0FC80D4F2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06FD9-3930-42D2-B0AC-84C28DEA4B8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ED3AD-A2D3-4A04-9575-6286607C6A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AA8E2-CF49-42BA-B313-69EB269762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3BDF-D79C-4FBC-BC8E-0D801830390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4D4A-4D49-46F4-9CF5-2ED697486F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DDAF-B700-4060-9F4B-20AF9EB4898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D4C5F-D7D2-485A-80F8-C065C3F9B77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AC3A-9CFE-4B1D-A7E0-A2229ABE99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2F50-C066-4193-A192-02DEFC8C55C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1278-9061-4FCE-BCFC-AE05520B4B5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E128-956B-47CB-8BFA-49136AB92E8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80B9-D1F1-4F8A-9F12-C14F1AD0DF3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660240" y="1295280"/>
            <a:ext cx="370872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166840" y="4191120"/>
            <a:ext cx="10414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Alyssa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1117440" y="4876920"/>
            <a:ext cx="33530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to climb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April 23, 2003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Alyssa.JPG"/>
          <p:cNvPicPr/>
          <p:nvPr/>
        </p:nvPicPr>
        <p:blipFill>
          <a:blip r:embed="rId1"/>
          <a:stretch/>
        </p:blipFill>
        <p:spPr>
          <a:xfrm>
            <a:off x="1727280" y="1295280"/>
            <a:ext cx="2111400" cy="2816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19.JPG"/>
          <p:cNvPicPr/>
          <p:nvPr/>
        </p:nvPicPr>
        <p:blipFill>
          <a:blip r:embed="rId2"/>
          <a:stretch/>
        </p:blipFill>
        <p:spPr>
          <a:xfrm>
            <a:off x="4927680" y="1676520"/>
            <a:ext cx="3689280" cy="491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9:49Z</dcterms:created>
  <dc:creator/>
  <dc:description/>
  <cp:keywords/>
  <dc:language>en-US</dc:language>
  <cp:lastModifiedBy>Student</cp:lastModifiedBy>
  <cp:lastPrinted>2010-08-26T01:04:50Z</cp:lastPrinted>
  <dcterms:modified xsi:type="dcterms:W3CDTF">2010-09-09T21:00:34Z</dcterms:modified>
  <cp:revision>9</cp:revision>
  <dc:subject/>
  <dc:title>スライド 1</dc:title>
</cp:coreProperties>
</file>