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1E86-A26E-42B6-A9A9-8AB71F4B3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91B4-3D69-4D88-843E-C522FC14DA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F047-93AF-44F8-A645-96C08DD02E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17B7-5BD1-4A7C-8375-61FC713EB3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BD3C-A652-4EA0-817F-A4F5C6B884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8B78-F6BF-4566-90CB-E6CE250B43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3155-0A9C-4863-9863-FBC77C979D3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E37F-C593-4E9F-9D55-5254A97182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1C65-3E93-41C1-8888-3B9E35C843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EEC2B-4BEF-41E3-A696-9518859F27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E54D-E99A-47EB-AFE2-9FA69ED1082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97807-614F-40D6-92EC-B2A5FB19A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08B1-7034-4DF9-BBAA-2109DE418B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6AF8F-B8BB-4224-BE2A-C8BC11D058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91BDF-0B6C-4E8B-ACC2-12094A9B68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AA632-1A6A-423B-BE20-4E2AAD74D96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57A99-4045-4611-8614-A99F45964A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6FEAD-397F-43F4-AC23-A553313964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ECBBB-775C-4BA1-959C-AD4371D6DE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C291F-82B0-47AF-9D68-B46AFA0EF9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BA3FA-75FA-4C49-BEC9-32AAE0F20C3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C6FFB-CDAE-42FA-B75E-043C7A2A2B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0A6DA-79AB-47B0-8E1F-6FF5C182F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AA66-9E5D-4D9A-993C-1C15747D30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B1BE0-9449-422A-BC0E-D56BDE93D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0F70-7EFA-407D-B554-8E1B5E2CC5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BA21-156F-4327-B8A2-05FCFBBBC7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FF44-BC36-4910-8165-0498186E4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8B6A-60E2-4F16-A80B-E98A553EA1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7E18-C69E-4154-BCD4-CFC9F5AC5D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CA40-5E0D-49DD-81AF-527B35436B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F178-A252-4084-95D7-8A245DC56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F59A-CC06-472A-9543-EB3431570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3503-74C8-40EE-BE47-F6CF28425E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B1A1-8783-4C78-B605-AB9959BC45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36A1-193E-40B7-A225-A8531F61E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2D7C-E26D-48FC-A0DE-B924DF739A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1FA0-6C12-4E8F-8CAC-CB7C524329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36D-A0D6-4085-A75D-E6E33B106C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52B-3FAA-4C46-83A0-D70088F6B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3C6-9270-49BB-8514-D13709274A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AD8-C372-4BFF-9ABE-4FA8CFBCE3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A04-D8AA-4F38-8E81-0B3E177E7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0806-6C5F-404F-81BC-65650834C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420-BB95-43B0-B017-1CFCECC8D3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037-360B-4889-8BB5-13D83DA9AB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092-35A1-4FA4-86F6-F9F50DD526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399-1E1C-4AA5-8B91-685ACAFF05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BBB-D73C-421A-AA97-18E57F1BC0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DC8-CD31-485B-85F8-5A4AD8FDBF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946-A0F6-4FD3-A6B7-7FFBBB69AE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BD7F3-B308-475E-8384-BA5EA6848A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EF010-3B17-4CDC-B112-85E7AE36EE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51996-1E2E-4D6D-8B76-F16018022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EE9B-F658-4383-BCD8-13FC2BAB86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86353-28A1-4EB2-B2AE-9DAF1055AC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B6BFB-C07C-483B-9993-1E417FCC50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87B69-A1A7-49A1-8F54-E3DE820B2F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A7241-95B1-4B89-8D06-59774BC73D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E2987-C060-42B7-A766-EC459DD8C5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EA33D-2361-4D50-B5C2-18ED8EDCF5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285F2-9208-41CF-86BE-BA99474C06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7DCEA-EF06-4D66-91CF-02BABA4E8B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1B90-5C21-4448-91FD-7554F80E55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92EE-9F80-4D96-867C-B637E6799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26F-357F-49BE-9EAD-F6184A635E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901AC-64DD-4575-9700-81529A9854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5F87-722E-461C-AA9A-9EFC5B53FF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93D5-E4A4-4D25-A13E-3A3EE573A2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944F-5DCE-4012-9308-A975B53141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B649-FE8F-436B-A362-C79470B500E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EA5F-2953-4026-B89F-A1B0999895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04683-FD46-4C1C-85C4-EF124AE63F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6D364-087C-473D-9647-0CB4E775E4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AA526-9400-445A-A225-3B5C7CF9D97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5A0DE-E6AB-4121-A188-35DB31B2E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71E3-B825-41AA-A779-B8CC369742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4059-4EA1-419A-8EFE-6969C47683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7EB-95CB-4CF6-9E41-163B6ABF5C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B6F8-C567-4AC1-AA53-A0DCA4DEE0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3C7-320B-4578-A604-9F918C72C9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58D5-24B0-4EB8-9BA6-5290142F9B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7B73-C1D9-45E4-A760-4B9ABE0640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4E83-C27E-43A8-BD61-B21DD9DB5B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B50D-2D6F-4DBB-B982-C12DD7B8ED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31F6-8E04-482D-AC6E-72D45F2283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E37B-EF09-41E5-88C3-76E5E3DF8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EAFC-FBEE-413E-82FA-C300951755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83A1-8A6A-489C-B01C-8EE8815F43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E6E-7615-48E5-9D9D-2C64F3EDCB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A9B4-BAC9-485B-8242-CC132A00AB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62126-C694-47AA-8EEC-A740729ABE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BA6AF-CD93-4A89-A7A9-F848A4251D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83C9D-63DD-456B-BE36-27EC9D08CB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EE112-205A-4170-A822-2737BD036C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E2DAF-1852-4D34-B16A-3E41C20D8C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814A9-1EB8-419D-A453-A10CE4E21E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A6E43-9192-485B-932E-49208D7B1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98C3-387F-46E4-876C-FB8E481FAE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3AF8B-7565-4CF9-B859-A58683D729A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97307-C7C7-434E-A192-A0BB54DF9C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E434B-DF45-4D06-AE33-E599CBBAB4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D2182-D5E8-4CC0-82A0-435FE052E7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7197D-B692-47EF-B5FA-6C2183F18B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9306E-3FA5-45A2-A5FC-B723D6496D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0598D-A530-4779-87B7-3AC36312D1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C08F6-EA1E-47B7-BB16-D52F7619EA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194FB-56AD-4CC6-A309-3047650380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3F636-DDE8-408E-8EC6-0E4EE1F6A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F3BF-EAC1-478E-AA84-6E20F1E5D3A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96022-D4FC-4A1E-B976-5682B0C4E9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0169F-AB3F-4B21-B230-9075B87B81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2D82F-1819-4368-99A8-FA0ACB167C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8680A-23A0-4672-9F3D-19502D1223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9B563-B9CF-4CA3-BC60-0600DD54E1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D9B1A-D647-4E0F-B56D-E6AE16C408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2BF21-E751-4CFE-BBD5-1C65E20A78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AA3A-62DB-4488-AAD3-8D4F011E024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286D-A01E-4F66-8FDA-655C0CC8DE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5CB9-2CEA-4A9E-B4E1-E1B8D3C75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BB6C-FFBF-40FE-B3A1-A79BF63F3C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BC6-4F85-48F1-90B2-0A6C96EF23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51B-63B1-4307-9345-FAE010378F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5FC2-D6FF-4B40-A48E-868D73E51B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09B1-E919-4031-AF8A-98B0AD931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B19-26B1-4176-A423-214D054A5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06FB-20E3-4826-A73E-CBBEB4B4DA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E755-3CC9-4D35-BC82-B1A15E996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724E-5FBC-478C-A087-F77ABA6365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6E38-4964-43E5-849E-EC74C4B21A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12952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66840" y="4191120"/>
            <a:ext cx="10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yss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o climb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pril 23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yssa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9Z</dcterms:created>
  <dc:creator/>
  <dc:description/>
  <cp:keywords/>
  <dc:language>en-US</dc:language>
  <cp:lastModifiedBy>Student</cp:lastModifiedBy>
  <cp:lastPrinted>2010-08-26T01:04:50Z</cp:lastPrinted>
  <dcterms:modified xsi:type="dcterms:W3CDTF">2010-09-09T21:00:34Z</dcterms:modified>
  <cp:revision>9</cp:revision>
  <dc:subject/>
  <dc:title>スライド 1</dc:title>
</cp:coreProperties>
</file>