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449A6-AB2F-48E5-AA09-14EFC42893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870B1-3A2F-4013-B953-7E8AF436BCFC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63E9B-E681-4CE2-B935-5692FC64DA2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E9308-B13B-4878-AEE7-4E1B914A0F9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83375-238E-4B58-B644-07714F3E911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28A52-854A-46D0-8617-355CDA73066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75910-73E5-44AD-A6C2-FDD443447FD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E091D-AE38-4149-9694-6E385480287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6DC0AD-840B-4578-B12D-FBFB5A99EC0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A6590-AA9C-4851-97EE-967768230A6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58559-38B2-4AA9-864D-CB2C1F2C996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89C564-CAE8-4325-9DF7-6F417EE823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3DFA1-C599-4175-ABCF-9BE837D645E4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2E603E-20B5-4B4F-819D-3766AF6F1FF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0DC109-B67F-40A8-9156-FE323BCBCF1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0F057E5-CDB0-4472-ABB8-00C3779500D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C8DFE65-8B0E-4EEB-BBD0-C0299FC2A3A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004E36-E89C-48E6-BADA-38BAFAA8109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11EBDE-5BFC-499E-BC3F-B92416069CF6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C2FB9E-CFF3-4D53-9EE0-FA595B09C8D6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D985BB-AAAF-478C-B749-B0AFBDA91C5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D9576B-26AA-435F-ACED-6E49D06E53F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2D9EE9-68D5-4803-8E37-2A26EA9071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25C50-1C9A-45E8-AEF5-87185084D5A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838B60-F8A4-4304-A4DB-0BF800186E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00CA0-1CB7-4FC3-BBB9-1ED6E6DB41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77567-94E3-4B4D-B518-6133ACC57A0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75575-0AB5-4937-93FB-37DBBB663C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7312A-DD60-4A1B-969A-E4D311B6CA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4872C-F4DB-40C2-AE42-E1393B3B20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12A15-6392-4D16-B75F-7A0A10FA254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DA6CD-0BF3-400F-9676-F93056390F9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BF0FB-F08E-4D50-B4FC-FC56BC6BDD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197F9-EB96-413E-98A2-8C35D30754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33CF4-9C7D-44F3-B1D1-0099AFB302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361B0-3E8F-481D-B2B8-026890BA095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4A14A-4294-44D5-9995-25726E5DE9B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1BF4E-CFDA-4B0C-8C9B-9AD2FF72398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5383F-FA27-485B-8401-23ED5BAA159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019E-16DB-4FAC-939A-E5E80949DD6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389E-5E7C-4F87-9B4A-27DF66562AD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4934-C573-4A0D-9C10-B0AC701114B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8C5C-2592-492E-B994-21F6963D77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3E048-065C-42A3-B3A0-B769B6E1BDA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2C96-8A7A-4878-9B4A-3D6A437DB0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3317-8E2A-4B70-BC1E-103149253C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DC7D-1063-4EFE-AB10-835C3B2DAFC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F747-7FA0-44EC-8940-49ADE12AF9F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015A-93B5-4CAC-9A8E-FF5173549BA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5BA70-4400-4DD0-9379-AE87439A31E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7A7F-7C2E-4A1B-B9F9-5D1A1B36CF0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1C2143-84EB-4C46-8D94-031736286B8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7F2908-40E4-4CB1-9492-6B8BE126B16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0D7092-03C6-4E46-B5D7-EE6E6B83BF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DDB57-4EEA-465E-A94A-4657B62F41E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AB794-8B30-4C4B-8A1D-F6C05540BD7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77D086-E30B-423E-8D75-65AB4AEFF3A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44111-CBEB-41CF-8A08-7674FD06836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4E6A48-AA67-4E5E-BDA2-E1ECBE5B30D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650C7-E6B0-458A-B2D4-3F5C90EDAE3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A0C38-5529-494F-A98F-A1B19AC4463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B0602-AEE6-4F93-B380-BA6153DB13D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63E29-E897-4030-A836-C83229BE030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6AE0FD-4C65-4D09-A421-36EC34358BD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A5708F-C369-41DE-A094-2436BFFA3A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84B75-3ACB-49D6-A613-A58D1013864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861B5-8013-4009-BEAD-FEC62827DE3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3D7CB-7551-469D-9CEA-6333841C60E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B65C01-DD7A-4B13-AEEA-5C9852B15CA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6A5E5-AFFD-4759-BFE7-E98F9D98867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51B29-0ACD-4638-B2FA-86B5421455F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6A4D0B-FCD5-4E04-A774-376C187BBB9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6F01E-B3F2-43DC-B96A-7B576C61040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3EB24E-D66B-4433-A98F-419F7766E0D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561769-BEC5-429A-A5D5-057FDE53DD2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38E522-6F74-4DE2-8866-4ED2F3A830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E5AA2-6F6D-48BF-B134-50121B70368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F1069D-6570-43A8-A1A4-830D44A58D7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15518-DE4F-4B23-822B-1E6030B210A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B814A-29AB-4361-B9F4-677647892D28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AC990-082B-4D29-A762-344D13D2627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9152B-77F4-4EA3-BF02-6042886C074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96BDD-0BB6-49E1-A157-AACCCDBCACD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A0431-B997-4874-A80E-9A3F83113E7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05AFD-0F22-43C5-9EAE-F8EEF94B6DB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4A58-7013-494F-8B5A-A549D44195F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AEB5F-FA56-44F9-849C-7191D5991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C36E5-D504-433E-B2A8-A10FE1DCA5D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6AB9A-B678-4E24-A79E-CBDEC3986FA5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F4D3-D9DA-4BEF-B0ED-D1CCC22D025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1781-A297-45E9-B334-2C51D65435E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AAA0E5-34C5-4E14-BCA7-C2645349E37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ADF3ECE-1C72-47CD-BC2E-2D36C8ADE66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17F081-C3D4-4034-A07B-0CD4B2B9375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3D53DE-0F7B-4FC4-8A4F-02E9956D96A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75A3706-3244-4474-83BF-07492BEA147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2C7D03-5F9A-485B-A2C0-9316045D4DE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51EF2C-4C06-4129-97CD-B9A09A6F0A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544E8-E93C-46A5-A5D2-E148021D556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B494DF-DD50-4DBD-82F7-6AC8D91B74B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FE689E-768D-4ADE-BF7B-53D6F2CC6C3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7168EDB-E886-48F2-9238-E708C208C13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C2CFCE-ADBD-4FBF-B1EF-FBE4C206918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F2E2A6-49AC-4223-9B72-15497353816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857E98-56F2-47F6-83F7-6687811689C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21466-6C31-4C4C-8BBE-CE4E1CBFDDB9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41A202-ADD5-43CB-9D51-A42854774F1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D79D40-1BA2-4D0B-B472-318C8C7C14F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DEF23-08C4-4CBF-A88A-274EB677C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FEF2E-013E-404A-B22D-BCB56AE8C89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1D0AE6-AE3D-478A-B7A9-182DA77D973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72C841-45D4-44D1-93C9-6ED36038502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99A1C1-CA54-4471-A7A8-F5109DC2E0D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4333F8-28FB-47FC-AC72-09C79E8B5AF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38B29F-6236-4813-9DCB-A0E5EB036BA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9D8801-66BD-467A-98EB-D85FE5F65C7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23BC22-DF9A-401B-955C-A590E8C4D0D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7E736-EB9A-4600-900A-CCBDA39ED06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39D36-4A28-4DEB-96F2-D21F1CC13DE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B55B2-DA60-4A30-8910-10490FFFA9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F6817-1755-479A-B594-5138E2C200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22440" y="622080"/>
            <a:ext cx="8889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10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E0619-39A3-4AA2-B466-342B762B1FF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016D-7412-4BF9-83D2-0CD7F150467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3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C2F1-DB40-43D1-B938-BC04C4EC1D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2527200"/>
            <a:ext cx="8889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4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1696E-0EA5-45CF-A140-78283E65C1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440" y="570240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5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E71C7-BC83-45A1-9593-28B5488EAC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080" y="622080"/>
            <a:ext cx="444492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22080" y="3797280"/>
            <a:ext cx="444492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E3B8-20F2-4B10-A835-DB6C2B2E733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44449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568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96516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38312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80108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7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F8D1-A7C5-4542-AD58-7C980BEC9C2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8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4C6C-6E8C-4D33-963E-2D3AD791BAA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70204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9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802C-FC69-43C7-B7FF-E85442BE224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  <a:ea typeface="ＭＳ Ｐゴシック"/>
              </a:rPr>
              <a:t>Self-Introduction Card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660240" y="1295280"/>
            <a:ext cx="370872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166840" y="4191120"/>
            <a:ext cx="1041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ヒラギノ丸ゴ Pro W4"/>
                <a:ea typeface="ＭＳ Ｐゴシック"/>
              </a:rPr>
              <a:t>Alyssa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1117440" y="4876920"/>
            <a:ext cx="33530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I like to climb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My birthday is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April 23, 2003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4927680" y="1143000"/>
            <a:ext cx="370836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276640" y="7189920"/>
            <a:ext cx="97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Front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375240" y="7162920"/>
            <a:ext cx="97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Back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pic>
        <p:nvPicPr>
          <p:cNvPr id="394" name="Picture 10" descr="Alyssa.JPG"/>
          <p:cNvPicPr/>
          <p:nvPr/>
        </p:nvPicPr>
        <p:blipFill>
          <a:blip r:embed="rId1"/>
          <a:stretch/>
        </p:blipFill>
        <p:spPr>
          <a:xfrm>
            <a:off x="1727280" y="1295280"/>
            <a:ext cx="2111400" cy="2816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100_7519.JPG"/>
          <p:cNvPicPr/>
          <p:nvPr/>
        </p:nvPicPr>
        <p:blipFill>
          <a:blip r:embed="rId2"/>
          <a:stretch/>
        </p:blipFill>
        <p:spPr>
          <a:xfrm>
            <a:off x="4927680" y="1676520"/>
            <a:ext cx="3689280" cy="4919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0:39:49Z</dcterms:created>
  <dc:creator/>
  <dc:description/>
  <cp:keywords/>
  <dc:language>en-US</dc:language>
  <cp:lastModifiedBy>Student</cp:lastModifiedBy>
  <cp:lastPrinted>2010-08-26T01:04:50Z</cp:lastPrinted>
  <dcterms:modified xsi:type="dcterms:W3CDTF">2010-09-09T21:00:34Z</dcterms:modified>
  <cp:revision>9</cp:revision>
  <dc:subject/>
  <dc:title>スライド 1</dc:title>
</cp:coreProperties>
</file>