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320501-3266-4453-B314-4ABA005FD6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6DB136-69EA-4F70-9E6C-DFB961DB9177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F5CC69-38D2-427A-9969-1A4B069B6474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FAB6E2-8751-48BD-8DEE-8AA26739E17F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622440" y="0"/>
            <a:ext cx="888984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0E953A-27BE-4B45-9320-CD9A74C92D67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E2A103-9100-425F-8A60-C287C5093343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A8EF36-72A4-4630-8778-A7E7CD999E86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FE67A7-6D20-41B2-B56C-7F3919C8D71D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082A9C-E33B-44EB-86AA-A4D71A6EB537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1A4E19-F038-4172-90D9-A1CD63EDF05C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628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63408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622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628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663408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1CB977-CA4C-493F-87F4-D8A69D3CB890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954504F-54D6-4F6A-AAF5-2BDCA77DAD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89B9AB-D306-4589-800E-E6F82FDC887B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B153FD4-1D1C-4D9A-8B97-84024A705969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12A50E0-BD1D-4E3D-911E-1CEDC395B0D8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E168197-7A95-42DB-8680-A817B4E1B113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F01045F-0A59-438E-A0FF-FF0AF57DEC11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622440" y="0"/>
            <a:ext cx="888984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4ED9DBC-1868-4030-A363-6B98DFA27B19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0AF0305-2D03-4238-A892-3EB02BED0247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2A69DA9-35C3-49BC-8DD8-64E6C14DAE88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8717A12-0F75-4912-959D-3EEE9533DD5C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5DEDCF3-BA3E-4B49-A576-3F77056772B5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D8AD809-EB0B-4410-B0D8-BC32AB0D1A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628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63408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22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628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63408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EB8A7C-3888-43C0-A6F5-A4A39A2AC44E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628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663408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622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628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663408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E0C503C-AB0C-4723-B52C-8FA3067F7B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77F07F-9E16-4933-9A58-A54A4BB7747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E0EC8A-8D30-473A-B267-AB0FB3AE5E0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2DC3F1-F42F-456E-96BA-B0021FACBB4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628E84-2E8F-494E-BD0F-3188C81471E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DB0C21-D9F4-4859-8C23-6B2C20CC062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22440" y="0"/>
            <a:ext cx="888984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EA629C-B310-4D68-880E-F0120E26CC4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A21AA6-30B9-4E4E-A33B-D84B803CBDC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DF5969-ADBD-47A3-A398-27A5CA1E20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925AAE-F833-4312-B491-730D6E334E2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5A6F88-1688-4C72-B2A3-D006178DB17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7CBB7A-3E7D-46B5-B601-01763F51687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CE3A1A-A0E3-4E53-BF87-7E0AB9C7F10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628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63408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22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628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63408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98C7BC-485A-47E8-8AEF-C2C817A08EB7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94B65-752A-4471-9466-F15EB46EAD8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18205-2957-45B3-AD3D-EB0DB7784DD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1EEA1-BC57-45A6-8A94-9A1CEBB5605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F8CA2-C3DD-41C1-AE71-A3BAA98FDBA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A9DF9-9F9F-4080-B0C5-78F68A38023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4DBECE-1C42-49F6-BE5B-DFD51F9A8EE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622440" y="0"/>
            <a:ext cx="888984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F116D-934F-44C5-8ED6-1A19E8E796E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9046E-C919-4C50-941E-4EB9E287A7D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5E952-7626-4681-94F2-27C32188B11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C65C0-D1BE-4E8D-83B2-606B1627B1C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77DC9-A496-4DB8-BAC1-A133EF0DDC7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611C7-D0C1-4A55-96BC-E3F64FCF679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628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63408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622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628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63408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A0920-BE9A-41E4-9E80-DC434B0973A7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E04B8B-797F-4A6A-8940-38FD805FD9CA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0E60A3-9F74-499A-BD3E-5173BC9190A6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086344-45A7-44AF-84BC-F62BEDB519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C62E20-B28A-40C6-90E2-24AF0F95DC3E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141248-6157-4B5A-848F-0287D0F02609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09E492-19F0-4034-A12E-FF591CDBD03E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622440" y="0"/>
            <a:ext cx="888984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4A5129-9597-4906-B84D-F9E7387EDC8E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F7BF18-FC3C-4E59-9A69-D95F1F81F78B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C389A6-86BF-435B-9D3F-84C4C6A35438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312F52-52B0-4F9C-96F3-22804FFB28A4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7F23E4-2747-41B8-ACE6-B435C1BD5E98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79ABD6-4F70-41A6-BB78-A65AB799BC52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628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63408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622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628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63408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8E0B0A-0F8B-4A59-8920-0B20B5F0FEB8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3DF1DD-7F04-408C-A3C2-7B97B0F46F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8F1737-4E46-4B15-8D91-5C79A31F2C7D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601CA8-4F1F-465F-8799-66F0795FC43A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1CD663-2E89-4A60-8DF7-BF9E045DC839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91E751-2C13-45B7-8345-6CB78CB085AD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902FAD-4294-4406-A294-099FFC42C635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622440" y="0"/>
            <a:ext cx="888984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450EFA-2C84-4D1F-B695-910327AC65F0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C14452-4902-4CBD-8896-501DBDBFB60F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A05E9D-0D0B-4EA5-949F-BE9358C738C1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B5DA4C-FF43-4B5E-BB05-D99DBBCFD1CD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77DBBE-8D2C-4AB9-B4BE-EB0CF58B676D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5BBF5F-76FE-460F-ACC0-52251EA7CC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22440" y="0"/>
            <a:ext cx="888984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E0BBBB-E73B-484D-BB5B-A956B3BB035F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628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63408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622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628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63408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97582C-64CA-42E4-89AA-32E2016F5184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25E49-0D45-4C6B-B14D-4F9199B76055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C0B2F-73B6-4215-BBA4-A140424ACE93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55BF6-2B99-40C7-83CD-7E4EDC00A98F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464A8-1A15-49D4-AB9A-384309216F1C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31AAE-3F8A-45FF-9440-6FB5D617446B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622440" y="0"/>
            <a:ext cx="888984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27BCB-0AFA-4C31-B0F8-3B4549DE88C5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C566C-9B87-4770-9DD0-A5604A30950E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002FF-2CD1-4838-B54D-6BE4FE091594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53EA0-D557-4BB1-BD17-50B40DF41C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0585B0-FFCA-4DBB-AC8A-39C6EA68A1B0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74895-3A7B-45F6-B04C-D41225979065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18FED-60B1-424F-A469-F0F4457FD202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628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63408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622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628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63408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38B2C-780E-4166-9C01-BD1D8544FFB2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67DBBA8-058F-4C71-AFC0-43A344A56C47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9C42EDC-CE1A-4978-A5BC-98AEC74B060E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281284B-66F0-4520-9FF6-98CDA83A593C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83CE918-1D36-422D-87ED-E56BBD5DC461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5D9109B-435F-4557-8FAC-9671B2B99A9D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622440" y="0"/>
            <a:ext cx="888984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FA513E2-7432-4B75-9B23-D636F041E11B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311D609-DD07-4B78-A0F0-6FE38F2312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87BE88-F30C-400F-A3E6-6C10E9F8FC50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E4EC6D6-F604-4040-A181-42E9A61FD8DE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43019C6-437C-4F8B-8A49-0CC6B3B12519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85BD66C-8C47-4B7F-B6DA-CC1A33D85D1B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245610E-4719-4474-BA07-B4545F1CB326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628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63408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622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3628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663408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8311F2D-C856-44C2-AD14-8B75864CB5F7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BD2904-6C4D-4072-8478-7F3EF68808D8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21C5038-038A-4ADA-8734-6A183B9A3EE1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EEDC11B-F922-46E3-8989-489EE6B4C245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FB7990F-4DB4-4262-9530-0349FC20ADAF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092AC0F-59F4-4B9D-9BB7-2B44028C16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DBB03-72EB-4EAD-B9C7-5A26F276E04B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ubTitle"/>
          </p:nvPr>
        </p:nvSpPr>
        <p:spPr>
          <a:xfrm>
            <a:off x="622440" y="0"/>
            <a:ext cx="888984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1C872F4-610F-47E0-8CF1-BEA3A696CAE9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B1D09B0-8980-4BE5-B35C-5598F8F8EDD8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102BBC-F817-488B-BD89-CB68233F038E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999D069-2035-4445-9E6B-18B46862310B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24DD262-08DB-4FF5-8C9C-3B36CD3A9FAE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09CF8E3-333B-4E6A-BDCE-26EE2B9A60B2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3628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63408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622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08" name="PlaceHolder 6"/>
          <p:cNvSpPr>
            <a:spLocks noGrp="1"/>
          </p:cNvSpPr>
          <p:nvPr>
            <p:ph/>
          </p:nvPr>
        </p:nvSpPr>
        <p:spPr>
          <a:xfrm>
            <a:off x="3628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09" name="PlaceHolder 7"/>
          <p:cNvSpPr>
            <a:spLocks noGrp="1"/>
          </p:cNvSpPr>
          <p:nvPr>
            <p:ph/>
          </p:nvPr>
        </p:nvSpPr>
        <p:spPr>
          <a:xfrm>
            <a:off x="663408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A81E38B-9C88-4F00-B768-5B9A17643191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83FD1E-2DCF-497D-9AFF-00D3D1888D49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DB9948-1583-4784-83BE-41A7DDD62656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055AAC-3464-4942-BC30-69A0638933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ヒラギノ角ゴ Pro W6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569880" indent="-3031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1" marL="1027080" indent="-3031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2" marL="1471680" indent="-3031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3" marL="1916280" indent="-30348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4" marL="2373480" indent="-30348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5" marL="2373480" indent="-30348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6" marL="2373480" indent="-30348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9609120" y="7143480"/>
            <a:ext cx="28728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B74E5-7581-4D58-A346-C3B49C7198A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ヒラギノ丸ゴ Pro W4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622440" y="622080"/>
            <a:ext cx="888984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569880" indent="-3031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1" marL="1027080" indent="-3031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2" marL="1471680" indent="-3031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3" marL="1916280" indent="-30348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4" marL="2373480" indent="-30348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5" marL="2373480" indent="-30348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6" marL="2373480" indent="-30348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Num" idx="10"/>
          </p:nvPr>
        </p:nvSpPr>
        <p:spPr>
          <a:xfrm>
            <a:off x="9609120" y="7143480"/>
            <a:ext cx="28728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C0022-C19B-467B-BA8C-44EA19C1ECB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ヒラギノ丸ゴ Pro W4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ldNum" idx="2"/>
          </p:nvPr>
        </p:nvSpPr>
        <p:spPr>
          <a:xfrm>
            <a:off x="9609120" y="7143480"/>
            <a:ext cx="28728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ACB09-73EC-4C62-9EE3-465A616BFB3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ヒラギノ丸ゴ Pro W4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ヒラギノ角ゴ Pro W6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ldNum" idx="3"/>
          </p:nvPr>
        </p:nvSpPr>
        <p:spPr>
          <a:xfrm>
            <a:off x="9609120" y="7143480"/>
            <a:ext cx="28728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CE780-7F29-4B71-9878-63AD74031EC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ヒラギノ丸ゴ Pro W4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22440" y="2527200"/>
            <a:ext cx="8889840" cy="254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ヒラギノ角ゴ Pro W6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ldNum" idx="4"/>
          </p:nvPr>
        </p:nvSpPr>
        <p:spPr>
          <a:xfrm>
            <a:off x="9609120" y="7143480"/>
            <a:ext cx="28728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65431-10CB-4C0C-8580-5EA3618B10C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ヒラギノ丸ゴ Pro W4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5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22440" y="570240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ヒラギノ角ゴ Pro W6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ldNum" idx="5"/>
          </p:nvPr>
        </p:nvSpPr>
        <p:spPr>
          <a:xfrm>
            <a:off x="9609120" y="7143480"/>
            <a:ext cx="28728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BCB93-E45C-4346-9E0C-4B32965B663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ヒラギノ丸ゴ Pro W4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5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22080" y="622080"/>
            <a:ext cx="4444920" cy="253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ヒラギノ角ゴ Pro W6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22080" y="3797280"/>
            <a:ext cx="4444920" cy="317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7000"/>
          </a:bodyPr>
          <a:p>
            <a:pPr marL="263880" indent="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1" marL="263880" indent="-263880" algn="ctr">
              <a:spcBef>
                <a:spcPts val="201"/>
              </a:spcBef>
              <a:buClr>
                <a:srgbClr val="000000"/>
              </a:buClr>
              <a:buFont typeface="ヒラギノ丸ゴ Pro W4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2" marL="263880" indent="-263880" algn="ctr">
              <a:spcBef>
                <a:spcPts val="201"/>
              </a:spcBef>
              <a:buClr>
                <a:srgbClr val="000000"/>
              </a:buClr>
              <a:buFont typeface="ヒラギノ丸ゴ Pro W4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3" marL="263880" indent="-263880" algn="ctr">
              <a:spcBef>
                <a:spcPts val="201"/>
              </a:spcBef>
              <a:buClr>
                <a:srgbClr val="000000"/>
              </a:buClr>
              <a:buFont typeface="ヒラギノ丸ゴ Pro W4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4" marL="263880" indent="-263880" algn="ctr">
              <a:spcBef>
                <a:spcPts val="201"/>
              </a:spcBef>
              <a:buClr>
                <a:srgbClr val="000000"/>
              </a:buClr>
              <a:buFont typeface="ヒラギノ丸ゴ Pro W4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5" marL="263880" indent="-263880" algn="ctr">
              <a:spcBef>
                <a:spcPts val="201"/>
              </a:spcBef>
              <a:buClr>
                <a:srgbClr val="000000"/>
              </a:buClr>
              <a:buFont typeface="ヒラギノ丸ゴ Pro W4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6" marL="263880" indent="-263880" algn="ctr">
              <a:spcBef>
                <a:spcPts val="201"/>
              </a:spcBef>
              <a:buClr>
                <a:srgbClr val="000000"/>
              </a:buClr>
              <a:buFont typeface="ヒラギノ丸ゴ Pro W4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sldNum" idx="6"/>
          </p:nvPr>
        </p:nvSpPr>
        <p:spPr>
          <a:xfrm>
            <a:off x="9609120" y="7143480"/>
            <a:ext cx="28728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DBBAA-EFEA-45EA-A4BA-91D11ACA5A4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ヒラギノ丸ゴ Pro W4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ヒラギノ角ゴ Pro W6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22080" y="1257120"/>
            <a:ext cx="44449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4000"/>
          </a:bodyPr>
          <a:p>
            <a:pPr marL="535680" indent="-28476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1" marL="965160" indent="-28476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2" marL="1383120" indent="-28476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3" marL="1801080" indent="-2851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4" marL="2230920" indent="-2851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5" marL="2230920" indent="-2851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6" marL="2230920" indent="-2851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sldNum" idx="7"/>
          </p:nvPr>
        </p:nvSpPr>
        <p:spPr>
          <a:xfrm>
            <a:off x="9609120" y="7143480"/>
            <a:ext cx="28728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91101-FA05-45BE-8C14-0A001825860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ヒラギノ丸ゴ Pro W4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ヒラギノ角ゴ Pro W6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22080" y="1257120"/>
            <a:ext cx="38098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1000"/>
          </a:bodyPr>
          <a:p>
            <a:pPr marL="461520" indent="-2455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1" marL="831600" indent="-2455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2" marL="1191960" indent="-2455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3" marL="1551960" indent="-2455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4" marL="1922400" indent="-2455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5" marL="1922400" indent="-2455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6" marL="1922400" indent="-2455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sldNum" idx="8"/>
          </p:nvPr>
        </p:nvSpPr>
        <p:spPr>
          <a:xfrm>
            <a:off x="9609120" y="7143480"/>
            <a:ext cx="28728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002F1-5D70-49A8-B8B6-E79FDB6B03F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ヒラギノ丸ゴ Pro W4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ヒラギノ角ゴ Pro W6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5702040" y="1257120"/>
            <a:ext cx="38098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1000"/>
          </a:bodyPr>
          <a:p>
            <a:pPr marL="461520" indent="-2455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1" marL="831600" indent="-2455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2" marL="1191960" indent="-2455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3" marL="1551960" indent="-2455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4" marL="1922400" indent="-2455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5" marL="1922400" indent="-2455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6" marL="1922400" indent="-2455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sldNum" idx="9"/>
          </p:nvPr>
        </p:nvSpPr>
        <p:spPr>
          <a:xfrm>
            <a:off x="9609120" y="7143480"/>
            <a:ext cx="28728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2DE4C-0E63-4964-BD83-F2E07023FFD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ヒラギノ丸ゴ Pro W4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ヒラギノ角ゴ Pro W6"/>
                <a:ea typeface="ＭＳ Ｐゴシック"/>
              </a:rPr>
              <a:t>Self-Introduction Card</a:t>
            </a: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88" name="Rectangle 2"/>
          <p:cNvSpPr/>
          <p:nvPr/>
        </p:nvSpPr>
        <p:spPr>
          <a:xfrm>
            <a:off x="660240" y="1295280"/>
            <a:ext cx="3708720" cy="6019920"/>
          </a:xfrm>
          <a:prstGeom prst="rect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89" name="Rectangle 4"/>
          <p:cNvSpPr/>
          <p:nvPr/>
        </p:nvSpPr>
        <p:spPr>
          <a:xfrm>
            <a:off x="2166840" y="4191120"/>
            <a:ext cx="10414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ヒラギノ丸ゴ Pro W4"/>
                <a:ea typeface="ＭＳ Ｐゴシック"/>
              </a:rPr>
              <a:t>Alyssa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90" name="Rectangle 5"/>
          <p:cNvSpPr/>
          <p:nvPr/>
        </p:nvSpPr>
        <p:spPr>
          <a:xfrm>
            <a:off x="1117440" y="4876920"/>
            <a:ext cx="335304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  <a:ea typeface="ＭＳ Ｐゴシック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  <a:ea typeface="ＭＳ Ｐゴシック"/>
              </a:rPr>
              <a:t>I like to climb.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  <a:ea typeface="ＭＳ Ｐゴシック"/>
              </a:rPr>
              <a:t>My birthday is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  <a:ea typeface="ＭＳ Ｐゴシック"/>
              </a:rPr>
              <a:t>April 23, 2003.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91" name="Rectangle 6"/>
          <p:cNvSpPr/>
          <p:nvPr/>
        </p:nvSpPr>
        <p:spPr>
          <a:xfrm>
            <a:off x="4927680" y="1143000"/>
            <a:ext cx="3708360" cy="6019920"/>
          </a:xfrm>
          <a:prstGeom prst="rect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92" name="Rectangle 4"/>
          <p:cNvSpPr/>
          <p:nvPr/>
        </p:nvSpPr>
        <p:spPr>
          <a:xfrm>
            <a:off x="2276640" y="7189920"/>
            <a:ext cx="9745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ヒラギノ丸ゴ Pro W4"/>
                <a:ea typeface="ＭＳ Ｐゴシック"/>
              </a:rPr>
              <a:t>(Front)</a:t>
            </a:r>
            <a:endParaRPr b="0" lang="en-US" sz="20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375240" y="7162920"/>
            <a:ext cx="97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ヒラギノ丸ゴ Pro W4"/>
                <a:ea typeface="ＭＳ Ｐゴシック"/>
              </a:rPr>
              <a:t>(Back)</a:t>
            </a:r>
            <a:endParaRPr b="0" lang="en-US" sz="20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pic>
        <p:nvPicPr>
          <p:cNvPr id="394" name="Picture 10" descr="Alyssa.JPG"/>
          <p:cNvPicPr/>
          <p:nvPr/>
        </p:nvPicPr>
        <p:blipFill>
          <a:blip r:embed="rId1"/>
          <a:stretch/>
        </p:blipFill>
        <p:spPr>
          <a:xfrm>
            <a:off x="1727280" y="1295280"/>
            <a:ext cx="2111400" cy="281628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10" descr="100_7519.JPG"/>
          <p:cNvPicPr/>
          <p:nvPr/>
        </p:nvPicPr>
        <p:blipFill>
          <a:blip r:embed="rId2"/>
          <a:stretch/>
        </p:blipFill>
        <p:spPr>
          <a:xfrm>
            <a:off x="4927680" y="1676520"/>
            <a:ext cx="3689280" cy="49194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9T20:39:49Z</dcterms:created>
  <dc:creator/>
  <dc:description/>
  <cp:keywords/>
  <dc:language>en-US</dc:language>
  <cp:lastModifiedBy>Student</cp:lastModifiedBy>
  <cp:lastPrinted>2010-08-26T01:04:50Z</cp:lastPrinted>
  <dcterms:modified xsi:type="dcterms:W3CDTF">2010-09-09T21:00:34Z</dcterms:modified>
  <cp:revision>9</cp:revision>
  <dc:subject/>
  <dc:title>スライド 1</dc:title>
</cp:coreProperties>
</file>