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CAA0D-5A19-4C50-8BEE-940A03AFD7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C0D11-B9AB-47AA-A93A-420F367A29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C3D2E-DCDA-4F66-9186-C795C22C6ED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FE883-5035-43F9-BAA1-C361E6C4D8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B5097-C6DD-4DFF-86D4-F3E3EC9EBAD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D8AA0-567C-4764-A5AE-54AE40EB7B3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7DE3-905E-4C9C-B629-5BF7171F935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FB3E37-4E51-4DFD-B466-70E060A05BD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4FD098-0AEB-435B-A709-9504D69E9F8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3F1F1-5A65-4A48-B4A0-8808C48919CE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ACFE3-432F-43AF-BCBB-9D63D598D8A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C543A7-1A2F-48F1-AB8A-1E818FBEEB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B0740-2C86-4F51-981A-B3E2435B789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41D722-F392-4B80-8175-73C47E12D0A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92979-091C-454A-BB1D-E6046552340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F80316-374C-4563-8D6C-E7DF3807CE7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9949EE-30D6-4BD7-B039-86089409C20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AA67C-B72B-412B-85C2-84627DF126E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3CD07F-6EB5-497F-91F9-5ED65A5ADEA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0DF942-8365-4869-9D90-857EACDC1C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279D7E-1926-4200-B9F8-80E0B834D64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012D19-12D6-46EE-884B-BF2A87776B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91D4AE-3859-4644-AC64-D0DAC09DBA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F1F2-A4C7-4FAC-B278-EE3251AE3EE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13480A-329D-428F-9411-0DD93155C7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E2898-E18E-4D48-8900-0D7723A1E0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7158-94B8-47F2-BED7-03AECF5314F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A6906-D7FB-4BB5-9548-8CA53A5D513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FDB64-FA6D-47A2-B1E7-58FF523B07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CBEA-0AC0-4CC0-9715-FA55E2E7111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CF0CD-AF1F-4F07-A770-51B705216F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80D9F-B6D5-40C1-B826-601927013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64770-A985-4254-B393-1A9C201512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098D-00EB-4CA4-B558-11F7C560CF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3E140-7E8F-436F-B124-903830718D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B326F-B023-4A2C-9805-2E041C7AF29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A7C60-AFA5-4695-A263-C7DA328FCC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A4D45-0683-4FA1-B68C-5FAC6979B5A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DF2D-935D-482C-9C1C-48FF460B8B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1E01-699C-4166-BB84-57FA2F63C64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7414-F013-464E-B6EF-4DC06F70E92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0F7E-6A04-4DE5-AFFF-3B7DF7774C8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2D7B-8760-4ADE-B5C4-84C94F118D9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12082-E4C8-4C4F-826C-A87DC2B4C3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761B-4D6B-48AE-AA74-896F403D3CD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CFDC-E063-4F14-ADC7-C2D2651163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BF0F-BC97-4C2B-9FF8-3F99D9904C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3BE9-20F3-4A24-8081-6440E70F137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3E60-AC95-4F38-AD03-6D0DD33032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FC2F-4E49-4160-AA18-F34913C7E9B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B1B2-0E6B-4C7C-97BC-69B3E26428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7842B8-1B51-4E0C-A88B-8B19020D689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705580-9676-40E4-8E56-1A816458A7D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E487BF-6E1B-44CB-95DE-93DE0D2A11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9B9C2-CE02-4FF9-9863-0697DED38B2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69E894-DC7F-4BAE-8867-63418655433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9CE475-E033-4C24-8630-8C6BB859047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741E1-3B5F-45CA-8DFC-81D065C16E1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3DB38A-3F2D-4878-9266-15B2DA60495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05FA1B-C0F8-4ABB-9A9A-DBCFC168AE8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8C0C1-5E90-41B5-9B9A-BD35175AB96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2F315-34DE-44BE-B610-67DD029BC1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D124BE-1C6A-42D5-9E99-A1AB6A692A8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FADCC3-C3D7-4D88-B783-C5C6C481802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F5CBD-6D50-47D7-BDE3-00256DAD1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260F2-ACA2-4C97-BC73-87DDB665516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57753E-5D3C-4473-A036-7E4D77ED38B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F38BB3-59DF-4B47-8AD1-2E3A0EBC31C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D99D21-97CA-4887-919A-09846986B14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256EFD-B9D2-4D20-96E1-7E93A538C09F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310F-5D00-4A60-8F02-53BD91F3CFA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EAA84-B6C3-4A06-811D-0533D3EFEEA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1161CF-93F0-4DD8-BC82-0CD709CC1ED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5D4F55-2618-45C1-9AB3-9DC3D63B396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FF35E-6BB4-43D5-A4D2-343DD88345A9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6CCD52-69F4-4ABE-845E-B3923FDCB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446DA-2A68-4E2C-9DA5-6958FFCABE2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DCF7AB-F416-46D9-A028-D27AA7C47DE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9C3E5-0436-4A0B-A3D1-D9E5327B5B4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F2925-F3B1-4718-8911-82D79164DA5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1E5F9-3755-46E6-8937-B5779385E6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C986-E1F0-46FF-BE0E-6D1E3BAD3098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54962-AD1C-497B-9CE2-099AC8B39E8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4A5C-A769-4A78-9E49-9B112862841E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D6F84-C1E9-43C0-8C69-4BFD48CC15D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8B579-12F8-4CF6-8438-7BB9C69975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06E1-8644-498A-8511-56AF2270D7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E29DB-269F-418F-B87D-636E62491C2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072AD-F5A7-44B6-BF3A-CD2CA7F324C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1F9F5-DA35-49AA-88D1-55AA11BAF58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E8AB-AC8C-43A5-987E-215A5C4A643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DD774D-7968-4058-81FE-D92507CFBAC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681CBEE-092E-4056-8803-6EE46266C8E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AFFD0-E00F-475E-8484-3111D1D30FE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0570F3-7663-413F-B8DE-238C1E03D2A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CF2E32-BBE2-4258-ADC0-3EF25814A09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97E3B8-4624-4BD7-BEAA-A59E3FBF969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228C52-8216-4E7C-8072-EB8D4F7C8F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D750-7496-4389-B15D-C395D11161A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C5570F-44B3-40EC-9596-EAF6719D33D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10832E-B9F4-4082-B8BF-7CC08F595A1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05514C-1731-4198-A404-89BC0424B5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34DED2-3FFA-4456-8253-C3E6CAF0A94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E60100-46D1-4F1C-A2D1-01057779871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01509-B207-4840-9340-865FA0F1FB4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50581F-3BE9-4647-BDEE-4526DE3240F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443CC1-60BC-4FAA-9A29-AAA18072461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BDD06C-6446-4016-A30A-A8721A5648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0FA18E-4879-4E63-AF72-A1315FF94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A1E9-AD15-44D9-ADE9-E7910D10DFC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6435B5-4922-4644-BFB1-27297FF8E4C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D354E-26F8-44D0-9098-9AF9A6E1608E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C2C94-81A0-493C-B1AA-21FAA63F720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41D748-4A9E-43BB-81AE-9A3934DE1F3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198098-9B41-420D-B9AF-E9444420994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5205C4-B795-411B-9915-FD4292A997FC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D8E88-5BD0-4422-9EC1-7980A44203F8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DB3E-0B8A-459C-9247-EBE4E736112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E3DC8-A2CC-4AE2-8C8D-5AC3A45F05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2721-B278-469B-A7A9-85367F8B26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F555-B5AF-4C55-B0C6-43D0F393A3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C4241-49DA-41CC-BEC5-82B53953EB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13FE1-45B1-48D3-8ABA-3CFC11B2D1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50F01-1E86-4BAB-B7A2-CC67EBBA32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408B8-2A8E-4CE6-AAB0-BF6FA3C809D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A9B9-50AB-45AA-91D5-8214EF6E1C9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2BAF6-712C-40CA-9283-A3425C4758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11DB-CD2A-4ACA-9A58-5F605A1A9E9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168B7-7DF1-44AD-80E2-8CC58750FB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79EA-17C1-4D84-838C-64E22AB6BCF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391480" y="4191120"/>
            <a:ext cx="592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l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965160" y="4876920"/>
            <a:ext cx="3581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puppie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November 14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ly.JPG"/>
          <p:cNvPicPr/>
          <p:nvPr/>
        </p:nvPicPr>
        <p:blipFill>
          <a:blip r:embed="rId1"/>
          <a:stretch/>
        </p:blipFill>
        <p:spPr>
          <a:xfrm>
            <a:off x="1879560" y="137160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1.JPG"/>
          <p:cNvPicPr/>
          <p:nvPr/>
        </p:nvPicPr>
        <p:blipFill>
          <a:blip r:embed="rId2"/>
          <a:stretch/>
        </p:blipFill>
        <p:spPr>
          <a:xfrm>
            <a:off x="4927680" y="160020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6Z</dcterms:created>
  <dc:creator/>
  <dc:description/>
  <cp:keywords/>
  <dc:language>en-US</dc:language>
  <cp:lastModifiedBy>Student</cp:lastModifiedBy>
  <cp:lastPrinted>2010-08-26T01:04:50Z</cp:lastPrinted>
  <dcterms:modified xsi:type="dcterms:W3CDTF">2010-09-09T20:57:58Z</dcterms:modified>
  <cp:revision>9</cp:revision>
  <dc:subject/>
  <dc:title>スライド 1</dc:title>
</cp:coreProperties>
</file>