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8574-AE0C-4EC7-945A-B4E6FB61E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C63A-CB73-461B-A69E-C92AFFC2EB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6C5B-473D-4629-AA66-F1E3FFF356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337A-6CA8-4076-A9A9-6BBFF8FD49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A7A8-B423-466D-86DC-C11D4D5A90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F0B4-576E-4885-8F9C-8BE778142D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7A93-2DCD-4160-9EE3-BAC9EE2781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B340-6F90-4E3C-9F02-E9BB38F2A4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38A8-3B55-4746-BD15-C190E4D064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1D25-4450-456A-B346-CE4A5150B55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8909-B63F-4257-8121-FE3FAB8B13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1E418-1BD9-4C52-ACCE-2F3EABE26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553C-FBD0-4053-85AD-BF12F3E0FC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4143C-D89C-44B3-9158-40D898C4DF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F67AB-FD9A-4296-922C-B28B177A9B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263C8-FC57-4834-A66E-59F36BA00D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B4A33-9D47-4F82-B862-26C30A4FAE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9415E-08F1-431A-A5FB-63373505D1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0A0D0-8C44-43A4-A77C-9964825B5D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D6B20-89AA-4E44-917D-3B814E077E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1CEACD-50F9-480B-B78D-E332622939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C71B2-93EC-4D78-946C-091D0F09B6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6F00F-8BEC-46F4-8861-B9DCAD048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B7E3-CC9B-4B98-A6D1-5B116142B1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9D281-58A5-468B-BABF-C1BDEC50F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7227-E19E-4991-A929-D90007A91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553A-B2E1-49A6-9463-B265D8997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D099-AF63-4776-BF94-7A0D7C0E8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69BC-7D17-45F7-B46C-5B06A82444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4E3F-FAD3-4F13-8446-F3FA437B3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72E6-23DB-4074-AA09-5798C7051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97A7-FA86-49B4-A9C8-031B7BF3C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981C-2B79-4EF6-8ED1-3BD47B0CE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EEF8-65D9-41DC-BB03-F078BBB838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7F32-7B77-41C0-A46A-A36FF1BF0D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2301-941D-4F64-90B9-1B560B2263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4DB8-92A1-4A1F-AC04-7C7239DBC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F1B3-C882-42BC-8A62-221E40C524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DB6-3173-4BC7-897E-7645FCDA99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1DB-B5A4-448D-8425-AA8C14C703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CEF-42B3-4872-9DE0-C73A54F892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191-E08A-4B52-A319-95A2715F68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F09-1E5E-483A-BDE3-C9B42E239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B84D-BF47-4DD2-90B4-0CB423B4C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BEF-3E88-432F-B51F-12B30FBF06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F11-7912-4A35-9836-C3CE0B1AB3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67D-970B-4DE7-B676-E0ECD38676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E1B-535B-4934-8D2C-C3399CB56C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B0A-2495-4805-89A4-A1494FFED9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1C4-D7B0-4D54-82E8-86AA7FCFBB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386-E4B9-4840-BA0D-E76F6F3C73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02F1B-6DB7-40A9-AB72-9640E2E624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47BA4-3574-41FF-B1EC-FFFEDA5554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04292-E22C-46C3-B75E-515D6757C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1B73-95AB-4277-9401-CC4195C832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EF010-22DD-42E5-8753-A46F98B534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52C7-A748-4546-B74D-6F7E07D4C3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066E-3C35-44A8-A826-4A1CA1649B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626B5-271D-4F05-8BEB-89D099D161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E7FF6-D6D7-4EC8-805E-B77111C0A4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F47EE-E5AD-4C84-9944-6729AB2121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7CC6E-05D6-4147-B706-459A2D33AD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1318B-B476-4406-BE5F-5C4002078F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0D8F-2E07-4687-B200-16028F47DB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06A9C-6584-4FCD-93DF-B660F9C33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7EAD-382D-4001-80FF-153C795672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530EE-81CA-4806-BBF9-C4FC10B482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98703-EDC4-4203-8B71-4B7A966D73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724A9-865A-496F-AF73-43AE9DBFA9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764B-3257-41E2-9312-C5E0027BCD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8B29-093E-4DE4-AECD-CD92CAB617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DD187-5995-47C4-9817-4100DFAB85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FF00C-908B-455E-B021-4D65AC4F17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6A96E-55D8-4510-AA9D-A521EC087C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BD624-0772-4CCC-86AA-7B7D057ECD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F2192-E056-4FEC-ACF1-6EEE86B78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20B5-B50A-4C8D-9B47-BBF78385BD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B349D-E7D1-4130-B074-FA1752EABD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D7D5-BEB7-4754-8BF1-A133720177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35B-C019-4AAB-8C46-9D90605082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93AD-78CE-4E33-A1C6-DA1DD92C5C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8F0F-CAEB-4006-B683-1651125515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82B5-63A2-479F-AD05-D91963AC20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FD5-90A1-4BEE-9A7F-EAA7FCC1D5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0FC-C1DD-48FC-829E-0DAAF793C80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D716-B010-48AF-8964-55D02400A9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092-000B-46FC-A04F-88E59A1BE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FE6C-E4BA-42A5-BEB4-4F5B015D85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5C3A-D31D-4C2C-BB85-C5C2F9BD2C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C488-B1B8-4C6D-A432-695126BAF5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8CD1-A28D-4ABC-8519-1C74A19C60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1891F-24B7-4982-8DF8-948BA1B488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45C34-2D1E-4724-83E4-A26F5C85B3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96405-3D5E-485D-B38A-D100C6DF15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0E11F-CF8D-4CA1-8FCB-A6F6F7F9D3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1EFF1-69E5-4D3A-A9EA-A053BAB547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6305B-EF84-4500-AF93-647C2DD2EE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74979-975E-439D-90F5-EB8D75C90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D2E9-1C6E-483F-B0C9-03231E7C3B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A6712F-BB4F-4A40-90EA-B13E0217D3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9D1F7-6342-45EC-8966-ACF902B1E1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EB656-A922-4E3F-9DC7-5351D536EF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1546E-DA20-478B-9E14-8A5D9ADB2D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84AE7-646D-450B-BFF8-183DAC10C8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0C806-EEDA-45C7-97B5-292E7A1578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C5CDF-DEAF-48E4-AE39-F92CC10BFD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D5DAC-C9E2-4B45-A0FE-98B1E89E1D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F2282-A9B3-4431-84A3-53D62A6310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334E0-0EB2-40CC-B9B6-CE4BDA254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3695-6ED4-4A1B-9B80-DD797A82DD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F68B4-799F-4DB3-A69B-6EFF92BE4E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3ABB4-8346-423D-93F7-55D325C367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6E9CA-3922-4CAE-943E-0B9CB315A5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4F0D1-2722-46C3-A030-050FFC64A7F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91E4E-C551-4FC6-B155-743C4D0924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A25FF-1327-4B15-B017-E2208C5F0D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C1255-B683-406F-A87E-01B7183A780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AF7C-CDE5-4A5B-8E5A-17B7DC51C7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B237-64F3-4130-BC50-02300DE1F0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F11B-FE65-4E5A-A5ED-E6B15A7B1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6FA-8399-4E95-BF74-BC37697C3F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B93A-48BC-447A-A162-840DEDCEF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EFA0-D09E-4AE9-9C11-4E9D63C7B9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B45C-CA4F-48B5-83BE-DF4D534AB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868-7A67-4077-A7A5-87E8FF0C42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11B-F5E7-4BD4-88E2-63E889EBF1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EF5-9009-4FDC-BEE3-5E636C590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90CA-6F93-41F7-BB3F-0C8A423A9C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6CBC-4ED3-4FC6-9C9B-0456CBD71C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C6A4-BAF0-4574-A622-D759604B2B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391480" y="4191120"/>
            <a:ext cx="59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l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65160" y="4876920"/>
            <a:ext cx="3581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uppie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November 14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ly.JPG"/>
          <p:cNvPicPr/>
          <p:nvPr/>
        </p:nvPicPr>
        <p:blipFill>
          <a:blip r:embed="rId1"/>
          <a:stretch/>
        </p:blipFill>
        <p:spPr>
          <a:xfrm>
            <a:off x="1879560" y="13716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1.JPG"/>
          <p:cNvPicPr/>
          <p:nvPr/>
        </p:nvPicPr>
        <p:blipFill>
          <a:blip r:embed="rId2"/>
          <a:stretch/>
        </p:blipFill>
        <p:spPr>
          <a:xfrm>
            <a:off x="4927680" y="160020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6Z</dcterms:created>
  <dc:creator/>
  <dc:description/>
  <cp:keywords/>
  <dc:language>en-US</dc:language>
  <cp:lastModifiedBy>Student</cp:lastModifiedBy>
  <cp:lastPrinted>2010-08-26T01:04:50Z</cp:lastPrinted>
  <dcterms:modified xsi:type="dcterms:W3CDTF">2010-09-09T20:57:58Z</dcterms:modified>
  <cp:revision>9</cp:revision>
  <dc:subject/>
  <dc:title>スライド 1</dc:title>
</cp:coreProperties>
</file>