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06663-6C8F-4D46-92F5-B1068016A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3E803-CE7F-4E2C-9504-D1F1AA03139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BB68D-5F99-4DB3-A8AD-28662358D550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CED74-77A3-49FC-A129-4EE7F49CDA8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8894C-B6CF-4C37-8321-7FFDF75EFCA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1EF197-22AA-41A8-B271-907CC919929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1D43E-0099-451B-94E2-56BDC1582F1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B4012-B676-432A-B3DE-166F71AA5CF3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2914F-5381-4BF0-8545-04E2A11089E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A5EF-8375-4B10-80A0-B21A528E41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EFFEC-2AEA-4AC5-B944-0DC2B51E97FA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636B2-4557-4EEF-AFC5-5195A8435D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428FF7-332E-4087-BDD5-E66E58BB8CE2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39F14-860C-4EF4-A39E-D529DA1EF9C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D97059-E435-4DDD-9507-0C908EBD7C3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FB5B9-4AC5-4D5A-BD34-427A79E986B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D7F724-46FD-47EF-BAA5-1EF1745F62B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BD41A3-B58B-4E96-8AF8-375B0F36D7B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B79098-EDAF-4285-9418-1A5D556452B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CB7A4A-34A5-493C-BC17-8B3A015E18A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E39A7A-676D-4A8E-A1FC-47C49366A5D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40BE0-BBB4-4DA8-B163-AE0D732C94E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7E53F8-F0B2-4EA2-A6E3-EFE69F46D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7864-E19E-4C61-A58D-C608A86A7823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41E93C-3584-4233-ACFB-353F92805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763B2-EFB7-4AD8-AE6F-AC1C4B5CF54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536F4-323F-4314-A7E3-F11920B87C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3C22-9CBD-4DBD-A65A-BB0FBFB917C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2DBA1-749A-4691-8921-7D3E604923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CBF9E-07CD-4170-A1A0-AFD459CB8AB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355E6B-FE21-4509-944A-655B955CB73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A0E66-F441-456C-85F9-4A97DEFCA2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9506-C085-41A1-9A3D-F399F5B074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5FC41-E33B-4785-88D4-69334E58FD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54CCED-6376-43A2-B6D8-BAD9036053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61E51-6FA4-4713-B623-94555D7C99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60CDE-D8BB-4ACA-904E-5AD1DEA0405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F8F6D-84A4-4874-BB96-EA15453AE6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DB15-FDEC-4429-BA01-AB2F53927A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B968-B6C0-4FC1-921A-D57A743D2EB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3B1B-0526-4B97-BCB7-2D1ACECE20F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DF2-AFF6-4F14-9925-776D5D9E4D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CB96-C8F6-4178-B5A1-092EAC311B9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0B5D1-7639-4ABC-9C6A-A896CA225D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91FB-1FA5-4F00-8511-BC1F6050F79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9C81-5E56-4C94-A9AA-1DE4916F992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1655-EC5D-4BE8-B01B-F35F38651B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FE4E-B011-4AED-BC46-0534311C34B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F2B8-904C-4A02-B710-CD8135E5353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CDC-6072-498F-807B-E3DA2A23955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1D08-0F16-48D2-814A-387E047C81E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2EA8F-D1C5-42B5-ABCD-396E04EB6A3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0F238D-817A-411E-8D56-064D5EA9ED4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D323E-083A-4AB7-A43B-1C2C7BEED2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40DF-1269-4C92-A22C-AF86A410C0B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010E05-EB9A-4A3B-B711-4F806D3C9DB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4547D2-50EA-44D9-B86C-E2019B295D1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1773E9-7476-4846-9916-4239250FABE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4F956B-F5F7-42DC-A460-C0CA497002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C8F73C-1D89-4B3A-91ED-9A086B7C34A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BC36C-0F6F-4216-94B9-9F40F4CB4F9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DB84F5-980C-419C-B472-CBE3035DDAA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1D7FE6-ECE3-4D92-AF60-D3B7AB0D103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854D8C-0155-4BED-89DB-3DD0D60080E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A3557-D922-4C0E-AE3C-C46F93F4F9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573D5-55A0-4EF0-AEF6-9FC6674D547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68C738-EEA9-4E39-B6D2-96D42BA666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83C813-BB84-4AF9-944C-721886A9D86C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287EE-0626-4BEF-A2D6-3A73FBA1BA5C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9C877-CDE4-428D-BAF1-EABE0B0DF1C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6A2403-711F-4F86-8936-13373C3FBE5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5C0168-FEE4-49D1-A3E1-0E909A31ADE2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B704C5-1F1A-43DA-9532-88832520645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3CFDD-90AC-45CF-A5B7-F94906419A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2CDEE2-1FF8-4E76-A009-6F8143E8B3C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BC76CB-CDD8-4CC9-835E-B9937D5976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16B0C-ADAC-4D37-8ED0-1231D7B20CC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F1E1F-1FE5-4BCD-9FF1-1556EBDBA21C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8802-B1B1-486B-B938-5FE773D93DB8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F21E0-D1AF-441A-8EA7-949ED924CC11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A5DC-7F60-45BB-9DFF-11CFFE6C79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E5AB-DB15-4230-B216-28962E6DAEF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7E0A-6A9C-4232-A0C6-5A62A1AEFC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2D107-D823-4592-896C-7C23300359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6104-8DB2-46D2-B0B3-537B55D4DE6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A65A3-9F82-4072-A8C6-27DDEAC97DC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1CE3-8D5E-4F09-A7EC-87139A5C2D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2611E-811A-4B99-A676-14623484EF8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3DFBE-88EB-4BE9-80C6-04CC6C269A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9BCC-F7FE-4B0B-A96B-D18C9317967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C1AE-59DB-4E18-9081-7625B93C42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56FAAA-4E16-4D1A-BE82-CB85CDFC319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1813D-96C0-44E1-9152-A259276855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346320-1E74-4C89-B890-D112956DFC9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0F67B4-E6B5-462F-B6EC-57014C2D2E6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3394A-ADE2-4F96-861C-31C4EA1990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3ED2AD-B8A8-4696-86B4-C5799331EF51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B88522-398D-4760-81F7-ACF1800B42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799B9-6012-4856-B6E9-A483525848C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95BEA8-059F-4A4D-912E-5674432AF63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A615C29-BBFF-4F01-A933-2A69ECA74CC6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07BC6F-405A-4436-B507-D0DCF326A7F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624F49-03D5-45C5-AC94-E9413D484CA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60A23-A4EC-4572-A23D-1412427C895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840A54-BB7C-457D-A9EA-CA261C5B2B8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764877-1EFD-4B07-AF75-131154ED139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0926C9-C539-4656-9EA3-32BB63862C5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E8546-A7DF-4A02-9EAD-F6BB309A441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F5BC06-2C08-480C-8D44-38B9BB3CD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341EA-1A89-49B2-9605-F4AF885DD14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39A211-0897-4FE6-85F8-0B9C31D30EC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2F234B-5BF2-4222-92B0-306A2386DEE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AA98FA-FE04-45BE-8B1A-4FCD01BBB7A9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FD368D-9019-4C19-AD65-609AEA08B76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4AB90B-19C3-4C6E-AD07-2CC4C43EA2D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114426-E876-456F-BB32-7718F0E86BC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279F6-64FB-4835-B5BE-EFD41AE4DD7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9DD26D-8AF7-4145-BA0C-6F5CBE8097B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DD867-5BD8-4E3A-948D-8D8534B6E99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64414-807D-46B4-BD76-3D0A3414C2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E18A8-E9B9-43CB-A4BB-B3C59051D1A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AB8F-EE4C-490E-B149-2C5131B4331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D2783-E710-42FD-B8C1-E9BA82384A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7480-72C8-4F62-B2E2-017100AF687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1048A-FBD9-4588-BB7B-FA59BA1328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6540-EC94-41D3-88F6-CD76B550F44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0F1C-E656-4A1E-8AF5-147AA00F8F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40FD-7382-49AA-B329-D5D2402CB55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8C98-2098-4342-80D4-0C9BEEBF23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9B84-A0BC-4940-983E-78F92F0FFA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391480" y="4191120"/>
            <a:ext cx="59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ly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65160" y="4876920"/>
            <a:ext cx="3581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puppies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November 14, 2002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ly.JPG"/>
          <p:cNvPicPr/>
          <p:nvPr/>
        </p:nvPicPr>
        <p:blipFill>
          <a:blip r:embed="rId1"/>
          <a:stretch/>
        </p:blipFill>
        <p:spPr>
          <a:xfrm>
            <a:off x="1879560" y="137160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1.JPG"/>
          <p:cNvPicPr/>
          <p:nvPr/>
        </p:nvPicPr>
        <p:blipFill>
          <a:blip r:embed="rId2"/>
          <a:stretch/>
        </p:blipFill>
        <p:spPr>
          <a:xfrm>
            <a:off x="4927680" y="160020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6Z</dcterms:created>
  <dc:creator/>
  <dc:description/>
  <cp:keywords/>
  <dc:language>en-US</dc:language>
  <cp:lastModifiedBy>Student</cp:lastModifiedBy>
  <cp:lastPrinted>2010-08-26T01:04:50Z</cp:lastPrinted>
  <dcterms:modified xsi:type="dcterms:W3CDTF">2010-09-09T20:57:58Z</dcterms:modified>
  <cp:revision>9</cp:revision>
  <dc:subject/>
  <dc:title>スライド 1</dc:title>
</cp:coreProperties>
</file>