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BC13-335B-4BD4-BC03-8E6413124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2014-E8E0-4F09-AB73-25252DFBF3E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38550-CD42-4914-BE9A-8FC7CA7A759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47E2A-6BBF-46EE-934A-6467FA46292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9470D-9FAB-444A-B05B-8CFBA28334A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5AF14-2D1E-47AE-9F35-D1573118CF6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65901-CB1D-425F-BDB8-A98CEBFB948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D66C5-B41A-4334-BBB3-BBD25B24537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11D00-CC7D-4622-AAD4-E40140FE247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DABD3-D9D5-47A1-B32A-0D6CBEAD252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D5A93-9275-42D0-8E1D-C8496136576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A6DDC6-60CC-4E5F-BC14-5F47A3F89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62613-0403-4EB8-A5E8-32B2C2E0259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77B344-2B1B-48F2-8413-34C0B3DCA50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B3041E-A7ED-45A0-8F26-C88790ACFAC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DC5A5B-1DCA-4758-8DEA-338F5DA49E9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AF2F57-E728-4994-92EC-8E73C0DCBC9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A20461-9B71-4643-964B-B5551149E53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010D06-33B1-4256-A4A2-624E587BC53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CDC12B-12B4-47FD-BE19-6BCC9359760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CB53B3-C1DF-4B05-95FC-52097BD2CC3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13BEB8-6CD3-41F9-BEE9-12B7E1D9CC3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0651A1-6490-43E7-96F2-FB0E86912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9CB1B-9C79-4DF6-B26A-9E73E2E5786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5E8C4F-68BF-4802-A542-A3CE0A1B9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D2D1A-5413-405F-BB8F-85F9D0CA5B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70401-6B33-4074-AE99-DA7D163054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323AF-EAF2-4731-95B0-6FD05F25B3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B1EE8-5547-405C-BEE2-A98C874547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F05F0-D687-4576-A307-3355D0546E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1AC8B-905A-4469-A620-6A4F53C41E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170B6-892D-4715-A7A6-B3A49F8F97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DB8C0-F0BD-4ADA-B2D3-E72D3C6E6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20E9B-6098-437C-B42C-84C3001CED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AB0FC-AF15-4B50-B43B-78B405C81F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9D446-BE2B-4356-9CB1-39E73A1DC7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2F2A4-9084-4130-A5FC-A9D42390CA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1A188-E300-49F9-AC79-3C952B0EAF5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9BEE-CC4F-4A0A-AA32-8B1563E8AF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3E1-626D-4D50-B6DC-5A96AB6D8B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FB01-A42B-4D9A-888E-D9DBECC5F8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92B8-BE64-4627-A0F7-B1DA78DC40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C010-158E-4981-BA24-5C56FCB7E3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7A83-7512-4663-A9F7-748B15F946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4641-2AF6-4528-98E3-C2C6A811E3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A458-9797-4DA0-94A1-BF8BE66535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55F4-7370-4993-A80B-ED80C61C57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C5A3-EBEF-4C5C-B762-B9E7CAF75D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E173-6284-431C-A09E-EF8B7037FD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2FC-64B6-4E88-8A5B-B0E30E5895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9171-FA40-41D3-AB27-30055466107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80CD4-BC34-41FD-845E-53477974FF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9DFDA-EEDC-4664-A086-00C3856DA04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49B74-148D-4171-B3A1-84B63B5B9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DB215-CF3B-4A7E-A0F8-285E0359A9C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8EEC3-3F9A-4665-8D54-1E22EBE4C5D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D15F1-6553-4794-9972-6EF5A0F7EA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A28A8-CB03-4B5F-983E-2D41D99219E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07D82-455A-43B9-9045-D8A361A0AF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DE3B1-BD14-4337-B34E-BD7D80B330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F5BD1-43BC-48F8-9621-488868C19B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68BDF-FE26-4F71-A634-90E03944AF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2CB40-FF96-4A0D-B615-AE0618CAC98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DE628-76C0-42A6-9FDD-1307F1710AC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C7F0A-C92C-4BF4-B884-6848820B7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8F2FF-E0BA-4872-AB50-97B8CD451B8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902C5-BE65-4E3A-8AC6-714733175A3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E9045-8AC4-4A33-8234-A035C6AFE78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B1256-C932-4940-9251-0C6B55DF1F6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A4580-F381-4BDB-82B2-A75224B2BF7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F8085-C643-410D-AEDA-7247C2A3E37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C9141-FBAD-4DF5-B2C2-1E258CF97F6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B4C92-B085-4DC7-B7EC-76241CFC5BD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7296E-7930-4B4D-8576-2F5D0F2B559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41F6C-A77C-4ACC-A850-75BD6A95F8D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90FE3-50C2-4B81-B139-A20C3791B9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5FC8E-A7A3-417D-8FCF-E556327FD3A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30A0E-9DEF-4B41-BECC-EE082FDBB9F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CE65-170E-48F3-B397-F8F1DCA6C69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6834-5900-403D-8704-7833D97B612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3A4D-07FA-4A95-9E42-84CA47C2C6C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43F4-E699-4198-934C-7664D9497BA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5263-9962-4812-90D2-0EF6A39469D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1175-9C48-412A-98D6-9123062E8BE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7633-4C69-4072-B5A9-05529E2A795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E288-FB13-481B-BE4C-A75E534DA7B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922D-99E0-41CD-A7C5-7685292E9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5FC0-B28A-44A6-82AD-F855ECC5B92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77A9-5904-4CD1-9C60-9A5B06625AE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3E6F-CAED-401B-9E24-635C7C380E7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D5FD-0FAB-42A6-A19C-E8D112ED746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E76D5B-D099-45CE-AF28-C85245E8860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7E4371-A513-4983-B2EA-1E71BF61B26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5DDD3A-2C47-4987-806B-0EB79D3B784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D9A9C1-1029-4933-9843-B1BD36BCE23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C15368-8EEC-4451-8A62-84D6BD393AD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84FD95-573F-4442-BC48-B83BEBB8656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D910CB-C1F3-4757-A589-A5B3202FE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DD26-FDD0-4BBC-B100-BC30D87821E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A70159-49EC-4002-8A49-BC521BE4B0F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2F8246-8877-4170-9A32-86937680F14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BA9888-BC0A-449D-9C7F-45793D79857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A29D4D-91CA-498A-91C0-3767D5929B8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3FAD99-91ED-4377-9F85-19F12BECD62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A4000F-64B0-419C-9843-6641723C236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8E0F24-CAFE-45DD-9E06-B23F22774CC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E5212-55CA-4C8A-BE07-1C4647589AD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838D1-5449-4EF7-8824-7A4D550D362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80D0EA-6FB6-4987-AF05-7FF7CB047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7E70-48F8-4BEA-873A-724032CB424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40725A-291A-48B5-B30A-7EB2C783454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E0A6F-5575-4CE8-ACC5-5F391387404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94AEB-7CAC-47BB-89DE-EC2CAF712A3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06598-C522-4604-9CE3-94D0F9A41A7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868ECE-9090-47BF-B9A3-95D00A001F5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088681-BBDA-43A5-BE96-6D67114C1B3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34D4E7-0065-4631-B793-A4A9068F966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98C73-DAAC-484C-BD14-DEFE4EA50EC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787D2-9CF3-4A51-81AC-D7EA5F0C49E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0F775-8DE9-4A73-BFE3-803F39A27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9D4D-F921-4803-A970-783F407A2A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B3E2-3EE6-4E58-A660-CEB2CEA01F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4F54-E015-43A6-9F03-A9B5EBE0F2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3883-3360-43A4-810A-6869FE7C9D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493C-6C78-41FE-933B-F71ECB8E1A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D30E-5374-4BCD-81C3-BA2CF0414B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39E0-4191-4383-B67C-C62AF19645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9D89-F09D-4C1E-9739-274D54C20F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EA2B-A634-4274-BBD9-A570A0CE8A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F654-EADD-4800-BC79-3166F06BE1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888840" y="1143000"/>
            <a:ext cx="370872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391480" y="4191120"/>
            <a:ext cx="592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Ally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965160" y="4876920"/>
            <a:ext cx="358128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puppies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November 14, 2002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Ally.JPG"/>
          <p:cNvPicPr/>
          <p:nvPr/>
        </p:nvPicPr>
        <p:blipFill>
          <a:blip r:embed="rId1"/>
          <a:stretch/>
        </p:blipFill>
        <p:spPr>
          <a:xfrm>
            <a:off x="1879560" y="1371600"/>
            <a:ext cx="2114640" cy="28195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21.JPG"/>
          <p:cNvPicPr/>
          <p:nvPr/>
        </p:nvPicPr>
        <p:blipFill>
          <a:blip r:embed="rId2"/>
          <a:stretch/>
        </p:blipFill>
        <p:spPr>
          <a:xfrm>
            <a:off x="4927680" y="1600200"/>
            <a:ext cx="3689280" cy="4919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9:46Z</dcterms:created>
  <dc:creator/>
  <dc:description/>
  <cp:keywords/>
  <dc:language>en-US</dc:language>
  <cp:lastModifiedBy>Student</cp:lastModifiedBy>
  <cp:lastPrinted>2010-08-26T01:04:50Z</cp:lastPrinted>
  <dcterms:modified xsi:type="dcterms:W3CDTF">2010-09-09T20:57:58Z</dcterms:modified>
  <cp:revision>9</cp:revision>
  <dc:subject/>
  <dc:title>スライド 1</dc:title>
</cp:coreProperties>
</file>