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2CF56-1390-4B81-A349-920A004EC0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0AB69-3449-4672-BF65-55864773653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6FFD2-DE60-418B-B9C2-2F6F6C848F2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65C8B-80B7-4B2B-A237-6EEEB88DC34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E3CFF-F8EB-4BDA-8AC0-81069069712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5C19C-0452-4183-AFF0-3C31B2C1F64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49B46-2370-4717-8F60-04D58076635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2A7C5-60DC-46D6-A435-0641CF62B76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299AE-8276-4D5C-ACC7-CAEA92B15F4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2A8EC-4CA5-4868-8963-EA4492A2B33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33CA2-09A7-4290-BC74-9D77357D257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E348FD-8BF9-4444-BDC0-F07A32DA7D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D899D-61E6-44B0-8FA9-B6DD12EFDDD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75915-FE16-4ECF-9050-AB5B30C6638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1918BF-FD5E-46C8-B0A3-4687DC93A50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79212D8-0363-453E-B966-27073E62039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6D568D-FAD6-4E24-9B1C-1133CBF30C9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FF1845-35E9-40BD-AB41-8741C8B4A13A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00F4D8-4907-4F1F-9D54-D509094E13B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B9D187-CF02-48DE-9C4E-F4952DA3649B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FC4A831-1393-40B8-B2FD-EE2EC8259BB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40447C-3760-41E0-AD30-BFB14C66F3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1D402-6543-47A1-BCED-353E2B57F3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3DF90-827F-4DC1-8746-8807AF613080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35400-6E17-449A-8DE6-6F734593C5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68238-1FEC-41FB-ACCF-598922C39E9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9CD30-C422-409C-B49D-5F48F49577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B25F-8BA5-47EC-8C49-5DAB699CE2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05E4-F294-41D1-9210-28DE40F732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0AC82-0634-4E28-818E-EC68FBAAD1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F6FD0-EAA1-4A63-86E7-D25015529E4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5A8F4-066F-49F3-A796-F13619A7C5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A0120-3E3E-4F79-80FB-2D4ADDA77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A6380-5EC2-457C-BB4D-89300CE0F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16378-39CC-49AA-9653-FBF5F728DB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4A98E-B5F0-4311-B283-FE7F8A4C58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ECF7-AD17-40E8-9FF5-6D9D1C99C9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A76B6-4109-4F44-911F-30B6C0D29F3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A999-1A06-4C1D-A329-EB737B8FC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0C60-1AE6-4B0C-BC11-ADF9009F40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C4A-E703-4B46-A10B-D58B41637BB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F0B-069D-4E2A-A890-3483EF7315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1346-21F2-4F37-A065-7ACC25D9BF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E28F-FFA2-4F1F-9E0A-54D3313F7C8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EFAB-0AAE-45D2-91BE-630710EEDFF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2549-C848-4D3E-89F9-C48DC0D4257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E12D-3E43-4A37-961D-4D4F28B9490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9EB-A919-4D83-BA92-88FC2EDC5A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3876-0CDD-436C-A638-7A338F8F8DE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FCC8-E5D4-4DEA-94FA-0BC1703B27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19D-B0DF-42F9-A43E-3B0FC93DEBA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6B2B5-87AB-4EDB-9334-ABE48BD64E4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D54AC6-7FE4-4814-BAAD-EE0A7EB9DFE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D2D3E-3A33-4C64-8902-F6EEACCAD2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149B-DE56-429A-AEFF-2DD1CD8A4AD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6173A-C75E-4A4B-9662-C284BF89B9A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80917-4CAB-406F-B1C2-1C8B929C4AC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F1D4E-1225-4811-9B37-AD6ED52802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9589A-38AE-4348-AD3D-86CDB222FFD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EC0A7-710D-46EB-B14B-1760E297A119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6CECF-3E44-4CA1-AB4B-103208AA995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89F472-4BC5-471B-AA1E-E7139CBC766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5EFFD3-0959-449E-9593-BE2E24A62A1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3AAFC-FCEB-4F5C-94A7-6931D04421D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DC3E3-8C91-4021-B6B2-C0A103BF0C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DDB7-D478-484C-ADE8-4F9F28CBF42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8E13CA-3E0D-4F8F-BC22-761614F1F2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F36E28-D97F-4E38-BC18-F34059128AB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EC45E4-4ED9-4F2C-9AFE-DDABA1A08A2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8AFA2F-EC41-418D-94F6-10E2706D51E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E3E898-9031-439F-8206-04C67497C9A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649438-9E83-4A02-A9C3-1624B42B58B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4B962-7B1B-49F6-9BBF-2DE82BE2300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7F05E-A75B-4DD8-981C-1E57CBB9203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A9B56-5C38-4000-B7BA-6BFD5DF235C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EE25A-4092-45BE-975C-9F42175EE3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4E2D6-4754-4E14-8C94-C67AD5B01A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051817-EB36-48B0-9A17-FAA1D5AF0CE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56D57-CFE7-450E-AE7A-BD866BC6394A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2DB5C-455C-416B-878E-7EF5D304A71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30003-66EF-47BC-B9F6-6554F01F7D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B34A-765F-4257-8B38-443060FDC681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36EC-6CA8-4B9E-9835-2A641A1D5CF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48492-1CB1-4C1F-80B9-5033F3689F0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1E769-99CE-4AB6-AA4A-B7DEE9526C8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573D-08BE-403E-947D-C00E9693144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E20A-7F1A-4951-839F-823959362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9B73-8C3C-49C3-B840-A4CD5062284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A2CFE-BB84-44A1-87A7-F3C79CD017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0FF7-9E76-4975-8AD5-5D3AD4616215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300CD-9941-48B2-9690-70CDFD969E1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1E4130-AA82-42A6-9ED1-81DF5C6B548F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59746F-AA0D-4E75-B4B5-4E8FC34BC06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19CBB5-E59D-4F76-95E2-666722D5B4E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5F7666-5BB0-4990-80AC-DF7B6ED6C3D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799A06-18BB-4E18-B78D-26DDB279A6C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EDC6F3-B7D6-411E-B432-FAFADCC7CAC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65C4FC-DA4D-4490-A0CE-2D8DE5492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A8ABC-72E7-453D-9985-7F1B8B2544FF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EBD55A0-0AB8-4F65-BE82-19C8107F16ED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64793-7F51-4014-B984-87D386B17F0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3097DB-C748-4673-939C-EB8B19D9E0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F76EDF-CE52-429F-975C-E7A15CD7AE4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3958E-B3BD-4A15-95A6-F00371716DE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B01FD2-5072-4BD5-95BB-33ABC9E3C8D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2D871D-6E29-4AF9-9302-9A4F2AE2C32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8BE732-FC93-4B9F-ABEE-48F2CDB2B5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1ADBB8-0805-4D6F-89B3-3EC609E7CB50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B98B3F-7F6F-40E8-8C42-A19F1EE769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5B1AC-302A-44A3-A536-FE976DEBE41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EDBFF-152F-4068-9CE7-7AF9C360D17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7C70DE-06F4-499A-94EE-54F29CA8BD6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14C9DA-BA35-4BBF-9872-432344A7A72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7F784-9646-4D78-8D4F-B1800E15CD0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A22EC7-42D9-4BAF-85B4-96DFFA8C0F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FA5396-2322-48A8-81A9-4645AC53392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DF8AD8-3C79-4E27-AA42-0F0C25576C9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40F69-6FB2-45BA-B4EE-C38A9390F6A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24B6E-0201-4E26-AF13-331AB71EB98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BAB6A-C63C-4928-B3EC-61014468CC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CDC1-1174-4EF7-8C63-71542BB539D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1E8E3-AB78-4DE1-BA15-06E01F1AB20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A464-2011-4C83-B3A8-9EF603069B3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1EFC2-20CF-4607-860C-4A3C47F57A0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7252-6416-4A69-9B98-12509531E4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5D303-88EC-4E6F-9212-7909B22669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B7C59-400B-4CEC-AF1C-1EADA6B014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1EA41-13EC-4F5D-8149-5C89170655D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DFCB-163C-44A1-8932-62A2E6F9D37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A6DC2-C6FF-4FF3-B248-3F796D531A6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0666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214720" y="4267080"/>
            <a:ext cx="1098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aka`i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E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February 14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akai.JPG"/>
          <p:cNvPicPr/>
          <p:nvPr/>
        </p:nvPicPr>
        <p:blipFill>
          <a:blip r:embed="rId1"/>
          <a:stretch/>
        </p:blipFill>
        <p:spPr>
          <a:xfrm>
            <a:off x="1727280" y="1523880"/>
            <a:ext cx="1904760" cy="2540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8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8:59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