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FC90D-B6C9-4E5E-A59A-246281B9D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1371-79CD-43EB-B728-54910F4A948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3DF36-2BD2-4CCB-B723-9CC0012030A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DC289-A12F-44A6-A1F5-487463D7751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31039-21FE-4640-AFF5-B833DDFCFD4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51371-AC0E-441B-8E06-7E9A580044C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05CFF-C80A-4A7A-83DD-651DA7CDE1E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B0AB8-FA4C-44A5-8033-6C4BAFCDF52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9D4A2-6CA6-4128-862E-872BD069FEA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1DB85-1549-4B76-BC16-D63BDFB749B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8F144-0061-4B84-8F3E-ED4CADC7A04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440CD3-E6B5-4878-97F7-77E6F1E010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2ABED-6E0B-49A8-8DCB-ED09F4038CB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B6AF78-98C0-4710-BBE0-99ED45D75D2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BD87B4-13F9-4FCF-87EE-950E02D34F4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A18DE2-B1E6-4399-B5E0-9CFA0A854C6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C5D343-A22E-4F77-AAA2-A4066430843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7B8F5C-0ADD-42D0-8F1A-398D9FB0F3A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5BFCB3-6201-4757-8D1A-022CA838801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9707B1-9C7D-41AD-9B64-EA11C28FEAC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3D28C2-4605-4F75-9712-E8EA0B2EADE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387B51-8CA0-4D7C-8E8A-BC34E158FDC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EE5D94-6319-4173-B7D5-580324D7C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4CFD1-10F2-4780-BF43-C71905B8E15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EAA387-BBED-4AA6-9A7A-0D651D9A1F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37F25-E955-40B2-8796-F8A4815308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953A2-3AC8-4A07-B728-A65B3E4605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AB27E-E2F1-453A-883B-779BCEA779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665E8-DBFE-42D9-92B0-6EF4E3BC43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31561-9E70-40C2-B577-242CDE3764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CB2A3-D508-4983-9A70-8D5EA2EEFA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38DCB-2A9D-4211-930A-40572E14F2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CB2B5-D608-4300-ACDD-7711F9CF9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77FE5-DD99-4003-87E5-DACB9042E7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AEC2B-43A8-45E0-A2DA-4F59E0DCF0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4922C-7C8E-4A7C-8A03-F3AF6C85B4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059B0-8091-49D9-B69F-1EC78D64E0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45FF9-E554-44DF-BF11-40CDFABF185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F040-C761-43FB-989A-DCA7987E21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A827-652A-4F07-9285-31E418D553D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A24D-C878-4F50-84AF-27107E84C5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4CEC-6C7E-46F1-BD69-48BB13886D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0586-72FF-4979-AD1F-07D6EC8EEF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66369-FAA7-47B7-803E-2D38A01CED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1C52-9C3F-4734-95E9-93861EE217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1BB0-2142-4501-9530-6437965F5A5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AA86-CC65-43B0-B6FB-D130E812D5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1963-66F2-4059-BDEE-5CC575E9F1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B029-C87C-42FF-94F0-9FD0A7BAA0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6C93-4B66-4307-905D-9B3C7B98F3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9DE6-6257-40D0-BFD2-F56590C836F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18E5A-84C1-416D-8567-43B30EB120C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FAB21-9767-4A3D-97FE-3B0DBB98919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2300D-F6F6-4E6E-8949-8018806C4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04DDE-B413-4CB2-97F0-19FD467DE67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D570B-F0E8-40DF-8165-704DE21A5DA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A9A31-6101-4982-8D6B-90BC0BFCA57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33599-EC90-43A2-8D36-4CE1CDD5860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7858B-3701-48D7-8E9E-950857D7C8B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20175-3BD6-414B-BBB1-DFB900D53D1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9F120-46DA-494B-B92C-C884C029B75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DB31F-6F2E-412E-A48C-2F333BFC46E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6047F-4805-4B09-BBDA-2E72A886D2D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A4C91-693E-402A-9B61-7958909AFFC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FE48E-1B58-4B19-85BC-81F33A96C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62A20-4FEC-4032-B3F3-ABD487B85A2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74A61-C9C7-4702-A827-97AD7853421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FE83E-498F-42DC-87D2-D7CE0B355A4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0A29B-2D0A-49A1-B547-466BC8062EE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292F3-64E6-4324-BC53-891D4096D5B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47E20-9E8E-4D4A-B05A-7C051FEB7B8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EE241-6290-48B4-8BC0-5433FAC2FC8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C8C69-DB2C-4286-8C28-28063D821FC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E82DA-F852-4845-A514-15E1F11D7B0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D047C-D8C8-4AA4-9BB1-BCEFFA2A811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E102D-B0D8-4110-A4EB-C34C0A770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E382D-0A32-472E-9592-82598D02FED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0AB1B-0ECE-48CE-9F62-58A34DB5D56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20E3-8274-46F2-9D6A-E7AD8B913F4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66E1-4487-4963-BE10-B8636687397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9011-50B7-4811-820A-E7FBB947997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EE11-5F9C-4770-9126-29760023BD5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4B35-95FB-4421-966A-DDA36029383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8815-E964-457B-BED8-902A9122B7D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DBAE-BC33-4E62-BE9F-91E22220E35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20BB-8BA8-40A7-B5A5-97C94DD224D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F1F6-DA17-4029-84D1-24425EF07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BA7A-0337-4A3A-994A-80D8A8F71DC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4D69-B7D5-49F5-908F-2FAA1112F04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0ADD-FE7C-4068-8C10-3698BB9EA83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52D5-4201-428B-8E1C-E18A2F18037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1782E9-9CCD-4FC1-808D-D08A6D32009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8F745C-C830-47E7-84D1-E7CD4AA526D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5CACD0-AA75-49DC-A280-42C45BA9719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94DA27-5E9A-4DB7-9A15-BBA421D5034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69201D-B7F8-4D00-8645-316C749239C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EE4445-81F4-4557-A224-7F5FE55F6FF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F3FB97-C19B-4F10-9B1D-FF2CD6CAA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62E7F-7679-48DB-B1DD-9E3B0065AB2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8C69D5-300B-4840-A5D4-8BA0A050609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2327B7-A62C-4BBB-AC6D-BFB7B8B116B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C0BE3F-DADB-4AFA-8C0B-ED079F6B5A5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F7661D-EA4C-4191-9DCE-77AB5E59DAF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F80769-C694-45AE-B7EF-D2B02EF16B1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C1746-5CC4-4BA5-B433-C7C8327523C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AB6D0A-3BEB-4896-998B-BF28662DD70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F7303-2E20-4D11-AFA7-B5743926935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35C5C2-DD5D-40CF-9155-D1C544AE31C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F0ECEC-A74E-4CD9-BFD8-48A054A747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465FB-9E04-4EDD-B3A4-FA1B5C6F3AD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71DD56-B1ED-4C41-80D1-7683CDCD978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DC8E28-97D8-4EDD-8DF1-36409516D62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D425FC-23AE-4ACC-9EDD-48AB4E3530D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54714C-C9C3-4306-ADAE-1272845CAF1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4A4FB7-AAFD-42E6-BA3E-F53EAF7D3B0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35DC5F-9361-4D6A-8846-ADD0AA4EB51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01758-4235-4E47-B9D9-36913F33281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6363E-0BE7-4091-BD34-1048D543A6B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7B4DD-8DB5-403D-9126-9CA9A99D096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BF21F-A1DF-48E6-B164-3171A755A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2E8B-CB3E-4131-97D3-ED9DA51D1D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22440" y="622080"/>
            <a:ext cx="8889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10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CF31-5DE1-4856-9A01-5791E40061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D7ED-040F-48D7-A7F4-8DEE44AF81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3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65EA-C762-459E-AFE2-EC8CCAE0B3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2527200"/>
            <a:ext cx="8889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4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BABC-D023-4535-A27A-F38444364B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440" y="570240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5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0E06-8771-4B0D-9633-647FA11C48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080" y="622080"/>
            <a:ext cx="444492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22080" y="3797280"/>
            <a:ext cx="444492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E380-3AF7-49F6-8497-C056AEBE88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44449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568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96516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38312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80108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7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12F2-0440-4609-95D9-F06D26D866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8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CE1F-930C-4F55-AEEB-F190513154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70204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9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D72D-CF24-47AE-A148-ADA9795A42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  <a:ea typeface="ＭＳ Ｐゴシック"/>
              </a:rPr>
              <a:t>Self-Introduction Card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888840" y="1066680"/>
            <a:ext cx="370872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214720" y="4267080"/>
            <a:ext cx="109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ヒラギノ丸ゴ Pro W4"/>
                <a:ea typeface="ＭＳ Ｐゴシック"/>
              </a:rPr>
              <a:t>Alaka`i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1117440" y="4876920"/>
            <a:ext cx="33530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I like PE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My birthday is February 14, 2003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4927680" y="1143000"/>
            <a:ext cx="370836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276640" y="7189920"/>
            <a:ext cx="97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Front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375240" y="7162920"/>
            <a:ext cx="97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Back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pic>
        <p:nvPicPr>
          <p:cNvPr id="394" name="Picture 10" descr="Alakai.JPG"/>
          <p:cNvPicPr/>
          <p:nvPr/>
        </p:nvPicPr>
        <p:blipFill>
          <a:blip r:embed="rId1"/>
          <a:stretch/>
        </p:blipFill>
        <p:spPr>
          <a:xfrm>
            <a:off x="1727280" y="1523880"/>
            <a:ext cx="1904760" cy="25401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100_7518.JPG"/>
          <p:cNvPicPr/>
          <p:nvPr/>
        </p:nvPicPr>
        <p:blipFill>
          <a:blip r:embed="rId2"/>
          <a:stretch/>
        </p:blipFill>
        <p:spPr>
          <a:xfrm>
            <a:off x="4927680" y="1752480"/>
            <a:ext cx="3689280" cy="4919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0:38:59Z</dcterms:created>
  <dc:creator/>
  <dc:description/>
  <cp:keywords/>
  <dc:language>en-US</dc:language>
  <cp:lastModifiedBy>Student</cp:lastModifiedBy>
  <cp:lastPrinted>2010-08-26T01:04:50Z</cp:lastPrinted>
  <dcterms:modified xsi:type="dcterms:W3CDTF">2010-09-09T20:58:08Z</dcterms:modified>
  <cp:revision>9</cp:revision>
  <dc:subject/>
  <dc:title>スライド 1</dc:title>
</cp:coreProperties>
</file>