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4023-EB27-4890-83F3-600A1F35E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7559-83CA-41DE-B30F-930DB1EAEF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1C0E-B9F6-42C1-9FE1-DC1683CC98C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1814-7603-4E60-A7C6-948E2C1027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2ACB-AA66-4320-8D2B-1C515CF9095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A03B-D221-4FC0-A738-6418DDDD84C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95B5-FE7E-4CDD-BB3C-CA6AB2AD01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DB98-8DFA-40B3-A7B1-16828EB0BB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7B79-35FE-42E0-92FE-2FF2FE3FB5D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B822-CEB3-4BD8-AF2C-0DF39B1452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8D50-BC3E-46C7-A0DD-F8C93A5235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4ED24-9702-425D-B0DC-08AF5CA10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B09E-CAB2-4BDC-B6BA-6649E021FE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B249B-4D9F-45BC-88ED-C7AAADC49E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857B8-058E-46E4-B6F4-7931B72D03E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11E21-30F7-43C9-B0CD-0761FBA2DB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1BE65-3868-4E91-8A03-E45B2FF24F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ED05B-C5EA-410F-BBB2-983E63569C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F80B1-17BB-4212-AA3D-ACE133A83E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BB06A-8B83-4DD6-9809-016D4207A5F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75CEF-7491-49EE-9C39-B3F1EA19A5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C4B39-78D2-4DFF-89E1-77AA2168F4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32DF3-246B-4088-AC01-D3D9A6F9C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C6FD-1798-4422-A5FB-8D6707EBF37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A8710-602C-47AA-8EBA-F28EACF73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2CAE-26A4-45A1-9D97-A3D3B02985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633A-E589-47E4-A066-856B83C52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6998-F10B-4DCE-9346-E19D2926D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EAAA-C782-4E8E-B68C-763688F67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BF76-FC3D-4104-A224-1F87FD1612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86F2-4281-4189-A2C0-B4967239B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E598-B98C-41B1-A315-7C3052BDBC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AF0D-B076-4483-AD70-563898530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0846-A0FF-4215-A7ED-20531628F0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114B-679C-4C08-891B-CB6481F915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DE77-3BB5-48CF-A1B6-10BEF87F2A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CA7F-89F0-4B44-B710-B8308A52D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ECF8-DEFC-4A54-9E0F-1AC1BF2066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E0B-3565-40C2-8100-A55CBE518C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389-7235-48CD-813C-C3573B0218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3A3-81BC-432C-989A-4053D2BFA0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BFB-1C34-4812-A153-E2C8AAF337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CB9-5BFE-42D0-A319-6C453911E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4A6A-2206-42E9-BF88-FE080BBA8C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710-C43E-4473-B393-A40B6AEF36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8CD-FD93-4014-AF8F-24FFF92920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75E-4450-4EB1-B8AD-5CDFC4A32C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C7C-EEC3-4ECF-8B8B-8790D70792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0FF-34B8-4355-9686-B710ACF357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2A3-695C-4586-B50F-BA06319F74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B4F-7FE8-421D-A8C8-A508C7F141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F4069-CBA2-417B-A5E5-95D909583E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DBDB-76FC-497B-9520-BD6309AAFF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41421-593A-486A-A7AC-8EC258BF8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411-AF0F-44BA-8F3F-4D70468DAC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B1D16-C5BE-4787-A465-2FF1F1EB57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47EEA-A60D-458B-90CE-2DBF2EA75F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F7E29-41CC-40A1-B5F2-BCF5BB1DB2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4CF60-D70E-48B0-A614-E0206935CB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C6EB8-48B3-43FE-87F5-ABDC5C3270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D7DE8-795A-4ABA-B747-5E29C65CD7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E810B-C7DB-408F-BD31-B25DD91F0F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9BF88-2DFE-4FB5-A7BD-74D8D874BD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210C7-8E91-4C3F-ABEB-33F7BCF74E9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FA4F8-C506-4C86-9B49-41041D58A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442F-79CD-4F18-98D1-CAD1D5400A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2641-068E-4D13-840A-C2781BB15AE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8F4ED-06AA-4E50-876E-691E905445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4DCBD-4B93-4C53-AD83-A3A61D43B9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11023-27E2-4218-A0E9-ACF2D91DE3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BF285-6183-493C-BDC4-570058B20F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0C1C0-80FA-4A45-AF04-E09DB29F45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5EE44-FA23-44D4-A0C0-D8B3C661DD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9F97F-1D86-4F91-9E0A-AD2039187F3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697A5-DA72-443E-8BDA-BE4C5CA43E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F9FD-A496-4EC7-9BE4-93E1717FB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3FC7-5CCF-448C-8CB7-AE2C40AF56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137F6-CAD3-47B6-A268-110E712B07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41B4-96D8-4134-9DAE-67D881EE37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139D-C01A-44AE-ADF1-9E1B87022A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9AD6-5102-47FF-BE56-6DDCAB1701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6D7-C06B-4FD4-BE1F-7C793E6518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907-89A4-48DC-B8A3-903F72CF0B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9F1A-BEB1-4C58-8E9B-9EE6E46916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27A9-D4CC-459F-879A-BD50127661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043-68D5-4F6B-A847-98B9750B96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E80-DA71-4190-AC73-E036B9811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9DA5-7080-4DBE-8924-EC07C1AF90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CDDC-D3FC-4B63-8D9F-E16C538A72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41F8-18C8-430E-BE6B-529B6849F3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D716-1427-4122-910F-5A3C46A38B6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A637D-D6B5-4556-B3DE-DC8A4CF9B0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3814F-9DCD-4EC8-B470-DF25893501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FDCAF-8C96-4BC7-BE81-AE507A010C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E6E7E4-AF7B-482C-BAD1-5B2257D1E8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55B83-98EC-48B6-8DB1-976386A3D7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05AB7-92A7-4A69-A4FC-3CD8ECBC66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F8849-DA8D-44FB-AAEA-CD93FFC1B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42D6-33B3-479C-B3D8-5310B75A7C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43AE08-9CA6-47A8-8E77-3DC482E231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AFA3D-2415-4772-8401-0067DA9518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0C789-49B8-44EB-9F45-942B9DB57A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0D437-264E-406C-9089-A3F181A1C5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EB7B5-D958-4A77-A5BA-21BC92A9AF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05431-67B1-434E-9100-184630A8F8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DE21C-7592-41D0-9161-E0A64A67A7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F5001-5F7D-4C9A-9D0C-D4E7899F65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11BC0-FB44-4B9B-97B1-EDDAABD6B8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41102-B868-4D4A-AEC2-0F5D9C96C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3980-547B-4D60-A124-186DB3EA8A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F8160-6F84-45E0-B997-504E127B68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BAC72-C55F-4679-BF1A-D5046CE664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79FAD-5641-46ED-ADD3-65B7A1A21E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E8E8F-54CF-454A-B1EB-3759DD963F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1773D-74AA-4E0D-BAE0-E191F598CD8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D59B3-02E2-4599-A1DC-882EB85A78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C7581-6C49-49E1-9484-E5D176B84F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0032-A39B-46CC-AA2B-13294C2025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8F26-4F22-46F1-8199-0FCB75F0A3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5843-7C76-4FE3-9EAF-4AD158659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0FD-AB9A-41F2-AFA7-523CDAC502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9994-4ED2-419F-9D47-4048EED66F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806C-7B92-4A54-BFE1-F0B901828A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B13D-94AC-4B2B-9D88-1F9A6A4E5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B27E-8615-42C5-B6B3-758449B201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BBA-20D8-4571-8FC4-1DB885AA0A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16AE-176E-49A2-8B70-0779F974A1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65CE-8129-422A-9C88-BAC14AB53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95E4-CCDD-4AD1-B129-88AB748D5A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57FB-9FE6-429E-8399-278C9E6FE1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0666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14720" y="4267080"/>
            <a:ext cx="109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aka`i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E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February 14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akai.JPG"/>
          <p:cNvPicPr/>
          <p:nvPr/>
        </p:nvPicPr>
        <p:blipFill>
          <a:blip r:embed="rId1"/>
          <a:stretch/>
        </p:blipFill>
        <p:spPr>
          <a:xfrm>
            <a:off x="1727280" y="152388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8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8:59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