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AF0A5-303A-4496-86F6-30E0C4601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74E1-482F-4C4B-AE94-F041B136717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FDE5CE-FE7B-499E-832D-42DB6C580F0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0A75CD-4BE4-4F9A-A423-0C123703DF0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164A9-FA80-4D7C-9A21-97D0131B2B9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88C571-43A6-4B81-AA0B-21AD2F4DA1A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A7EF3-7886-4BC2-B9B9-35A30F0B848D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802C6-C4ED-4762-8DF9-A0F6BEFD6FB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29AF4-2E20-4EB3-8B42-524DB4B7954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5029E-A18A-4DC1-A3EE-6B030DF56DA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1DCE2-2909-4303-91D8-6EC8053BD04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D678FB-8826-4F45-B7B2-A484684108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CF5F8-E294-448B-B988-334C33E0B8E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D6E1E0-B0C1-43B4-99B0-BE99B7E6D669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34A4C4-317B-4382-BF8C-F83B3CF99D4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EDC4B3-D4DC-42AF-8803-0385A1BD1EC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F7CC2E-76CC-45F4-B398-5B88B4DE5A21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7AF055-1F95-41E2-8312-29A2DED5AB1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5CCDB6-6BD8-4D32-8DFD-0B2C62441C1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E8A1EA-C8F2-47AA-94B0-990C133646D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A5DF3A-6EBE-4B42-9E60-9B3646743AE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67253C-11EC-4C88-81B9-63DA4F11CDB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DB3008-E1C5-4757-8BCF-F4049E591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E815-4F79-47DC-A5F7-32213B814C0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6F80E5-36F4-462B-B765-C8D08BE76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C7EE7-9215-47AB-86EA-4FE0D735A02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9DC61-7930-4F4F-B19C-7C8FA46A40B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B389C-10EC-4790-B45A-C38FFA75EC4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F97BF-82EA-4DB5-BFC7-5A3593E7C4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16280-9E7B-4544-8B60-C83A729AF8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7D12D-AAAD-447C-9246-A1131AFCB9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A1A39-73A7-4B77-AE26-D2B5E97680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D832-C3B5-4FAC-9883-1E4A3A56C0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E77C2-0A78-44FB-B511-0541DB0E9AA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B3B18-2F6F-498F-B3F2-8707BD454A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F2CE2-EA7A-4EFB-9D24-418A96A513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BE5E1-16AF-4A48-8D9D-64FBB2AD4EC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E36F10-9DCD-4690-A015-1E4F0B96D43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836A-9E17-4CEC-9D27-9D2A08DA1B3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D46E-F550-4A62-A1C4-9451C2305C3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2FE0-295F-476B-A37F-1337A2B6F07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15F9-DC36-4F4C-9CA7-80189F0BA3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CC9-A76C-412B-9704-42D99FDBC1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B1B7F-EBD6-4AFB-A530-6BB6A413E59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0E20-2AF2-4139-B2B4-FE99C4E86D5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92D8-75FE-4625-AEB0-2666DB1FA3F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3A60-B2C6-46BF-955B-3F39A2ECAE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E348-2E47-4EB9-9448-1FF41416C6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F774-AA97-4086-B4E7-70CFDCB5B2E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480C-23DE-4489-9E4C-66E0EBC54C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FDFF-F769-4BD7-B8A7-5EEF41B4669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437FA-A7ED-4ABE-A717-EB25A75A01F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4D0BA3-425F-4082-A7E4-4D9BFF531A1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3251B-47C3-40CF-AF53-345B666427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43168-9AAC-49F3-952C-C8E6C47865E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62C74-7C2A-4871-A099-A13AF0641F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FDE16-EDA6-48AA-BA72-E59548BE548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6ADD0B-171E-4664-A0A2-409C27C79BC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B3CA92-A718-47BB-9DB2-04A2342C13A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6790D7-54B9-4D21-9D5E-E63D7578868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E4B2E-C8F9-4C95-BE0F-AD61DBD4F5F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DF2AC7-BCF0-40E2-B860-DC408B44E08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5975DD-BB8B-41A3-A346-75B6D71A7CF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CD5E03-7F8F-459A-BC28-B6D5A09A3F1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13EFDE-1E1E-464B-B104-973EFA22A8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74B80-7B5B-48CA-834F-C1A22AF6673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5ED57-98B7-44E0-AF0F-89E59D3FA23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96EAA5-F6D8-43E8-953B-EFE4F1E294B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31739-A995-4E17-B100-4AB17AFCE18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03616-F8F4-4C5B-A261-831F9C01FD6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95C74-034C-4B13-BD36-598D6ACBA35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BBDD38-E093-4457-94AB-BAC5577B773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AF865E-40E3-445E-BA4B-7971F6CA594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3FCBB2-82FF-4B7D-8E8E-E44D7A21B5F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3501F-E34F-49F1-8C69-E40DCE7FE5F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B3421-3A32-4B0C-A7FC-C4A362D37B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02FF-B8B7-4259-8772-37DFB0F1710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691BDC-306C-490B-9DBC-67B22DCE117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4F66D-15A3-460E-B4C2-ACA447D616D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241EA-3086-4A2E-97AA-48484D8CCE6A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A0BA8-C67D-47FC-A15E-D10A6CAF226E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2390-7871-4C4A-AA92-27DEEA72C5E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E4D7F-6646-4BF6-BBA3-BAED2BC37C3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5363-3405-476F-A7AE-E19AD8FEB2A7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66B9A-B93C-4B23-BC87-3075F9C10E4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B18D-55BE-43FA-A22B-922FB80563F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26BE6-FAF7-45C0-A04F-FD4C2B1F59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32ABC-2F4B-4B3A-BEB8-797D92E78E9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A9B7-2E6C-4195-A5FF-64A9C128D9E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58CB6-A429-412E-9E11-8863BB721B0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1F39-A9A2-4899-A76E-D3736334F43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3D3EC6-B599-4DAD-8CF5-636C3B89A4F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CCB0441-613D-4AC8-8DBF-E6C18EB598E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B77606-5938-44A4-9991-03135E5E260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41C670-7AA4-4374-A344-9AB48BAAA67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0A627C-62A1-418D-A37F-2CC42BF6CB7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F171BA6-F0C1-4DBC-8CC6-BC5048917D3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DF6A92-9BA8-4BD1-B947-D4ED670DA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046A4-A387-4331-BEF0-42445DBCE3B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302CFB-2022-4FA0-BF42-19BC1157282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817F29-3B32-4669-8BC8-57177CFA70E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5815DC-CD55-422B-9FF5-3E427B0AEDD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F85D25-39EB-4965-935F-158F9B26C9C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DDF41F-319A-4D6E-AE2C-DE860F8E6AF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114139-88D4-48BF-960B-E7EE2D0340B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56C65F-1380-4608-A32C-78D2BB603AF3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73CDC-CDE9-4A97-A0FF-6401AF96D333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89F0D-C240-4994-B8B0-1494E5CCBD4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CAB17E-1968-4850-8823-7EC8324A4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94D6F-9076-4023-816C-76C0D36DF8C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3FFF24-C3DE-4D3F-ABAA-E4B5B215BEB7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A03286-4A4E-406F-8739-EDED8037797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7007C-B300-4CDB-919B-52187868002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12504C-9D82-4A97-86C0-5EE6E8A973DC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9C2DEE-849B-4FEF-97EF-9832E6FA76B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1A2735-BD5D-417B-B03F-5979068A759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B987AC-06AA-4B6A-BBA1-13FC3C62361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322A3A-7AD1-4ACB-B1C5-57D07281359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D56AB-0F92-4C67-9031-D4A4BF64D72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0BFF2C-A1A3-4136-B6AF-C022B66AD5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63BF-D6D6-4B06-B173-BE1195308A0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2C9B-D8B3-4FD0-ACE3-0C02BD8FAF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237D-F4F1-4791-8F25-E778D2FD839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D847-30F2-4F00-A9DE-0FCD2519FD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4EEF6-B48E-4EA8-AB19-4593F5C46AA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DB94-CEE2-4F33-B354-41BC57C3232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1F8D-AC38-44F9-8D65-074FDBD4E7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BAB7-0737-4AA0-BB10-0860CADEA5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74343-5CEE-4B07-BD4B-F946B7906A4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11400-E40A-4E50-B3E5-15C36639121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888840" y="1066680"/>
            <a:ext cx="370872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214720" y="4267080"/>
            <a:ext cx="109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Alaka`i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117440" y="4876920"/>
            <a:ext cx="33530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PE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 February 14, 2003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Alakai.JPG"/>
          <p:cNvPicPr/>
          <p:nvPr/>
        </p:nvPicPr>
        <p:blipFill>
          <a:blip r:embed="rId1"/>
          <a:stretch/>
        </p:blipFill>
        <p:spPr>
          <a:xfrm>
            <a:off x="1727280" y="1523880"/>
            <a:ext cx="1904760" cy="2540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18.JPG"/>
          <p:cNvPicPr/>
          <p:nvPr/>
        </p:nvPicPr>
        <p:blipFill>
          <a:blip r:embed="rId2"/>
          <a:stretch/>
        </p:blipFill>
        <p:spPr>
          <a:xfrm>
            <a:off x="4927680" y="1752480"/>
            <a:ext cx="3689280" cy="491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8:59Z</dcterms:created>
  <dc:creator/>
  <dc:description/>
  <cp:keywords/>
  <dc:language>en-US</dc:language>
  <cp:lastModifiedBy>Student</cp:lastModifiedBy>
  <cp:lastPrinted>2010-08-26T01:04:50Z</cp:lastPrinted>
  <dcterms:modified xsi:type="dcterms:W3CDTF">2010-09-09T20:58:08Z</dcterms:modified>
  <cp:revision>9</cp:revision>
  <dc:subject/>
  <dc:title>スライド 1</dc:title>
</cp:coreProperties>
</file>